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1"/>
          </p:nvPr>
        </p:nvSpPr>
        <p:spPr>
          <a:xfrm>
            <a:off x="4021200" y="0"/>
            <a:ext cx="3076560" cy="51120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5"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6" name="PlaceHolder 4"/>
          <p:cNvSpPr>
            <a:spLocks noGrp="1"/>
          </p:cNvSpPr>
          <p:nvPr>
            <p:ph type="body"/>
          </p:nvPr>
        </p:nvSpPr>
        <p:spPr>
          <a:xfrm>
            <a:off x="711000" y="4860720"/>
            <a:ext cx="567684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12"/>
          </p:nvPr>
        </p:nvSpPr>
        <p:spPr>
          <a:xfrm>
            <a:off x="0" y="9721800"/>
            <a:ext cx="3076560" cy="511200"/>
          </a:xfrm>
          <a:prstGeom prst="rect">
            <a:avLst/>
          </a:prstGeom>
          <a:noFill/>
          <a:ln w="0">
            <a:noFill/>
          </a:ln>
        </p:spPr>
        <p:txBody>
          <a:bodyPr lIns="96480" rIns="96480" tIns="48240" bIns="482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3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300" spc="-1" strike="noStrike">
                <a:solidFill>
                  <a:srgbClr val="000000"/>
                </a:solidFill>
                <a:latin typeface="Calibri"/>
              </a:rPr>
              <a:t>Fritz Steiner, Dornach</a:t>
            </a:r>
            <a:endParaRPr b="0" lang="en-US" sz="1300" spc="-1" strike="noStrike">
              <a:solidFill>
                <a:srgbClr val="000000"/>
              </a:solidFill>
              <a:latin typeface="Times New Roman"/>
            </a:endParaRPr>
          </a:p>
        </p:txBody>
      </p:sp>
      <p:sp>
        <p:nvSpPr>
          <p:cNvPr id="168" name="PlaceHolder 6"/>
          <p:cNvSpPr>
            <a:spLocks noGrp="1"/>
          </p:cNvSpPr>
          <p:nvPr>
            <p:ph type="sldNum" idx="13"/>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5452-451C-4AF1-9EE2-EF3A596F9CFA}" type="slidenum">
              <a:rPr b="0" lang="de-CH"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0720" y="766800"/>
            <a:ext cx="5118120" cy="3838680"/>
          </a:xfrm>
          <a:prstGeom prst="rect">
            <a:avLst/>
          </a:prstGeom>
          <a:ln w="0">
            <a:noFill/>
          </a:ln>
        </p:spPr>
      </p:sp>
      <p:sp>
        <p:nvSpPr>
          <p:cNvPr id="387"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Fußzeilenplatzhalter 3"/>
          <p:cNvSpPr/>
          <p:nvPr/>
        </p:nvSpPr>
        <p:spPr>
          <a:xfrm>
            <a:off x="0" y="9721800"/>
            <a:ext cx="3076560" cy="511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300" spc="-1" strike="noStrike">
                <a:solidFill>
                  <a:srgbClr val="000000"/>
                </a:solidFill>
                <a:latin typeface="Calibri"/>
              </a:rPr>
              <a:t>Fritz Steiner, Dornach</a:t>
            </a:r>
            <a:endParaRPr b="0" lang="en-US" sz="1300" spc="-1" strike="noStrike">
              <a:solidFill>
                <a:srgbClr val="000000"/>
              </a:solidFill>
              <a:latin typeface="Arial"/>
            </a:endParaRPr>
          </a:p>
        </p:txBody>
      </p:sp>
      <p:sp>
        <p:nvSpPr>
          <p:cNvPr id="389" name="Foliennummernplatzhalter 4"/>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0F6D-5BD1-427E-A2D4-ECDC776F55B7}" type="slidenum">
              <a:rPr b="0" lang="de-CH"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8A2B-1972-4906-83E0-CF63DB201B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391" name="PlaceHolder 1"/>
          <p:cNvSpPr>
            <a:spLocks noGrp="1"/>
          </p:cNvSpPr>
          <p:nvPr>
            <p:ph type="sldImg"/>
          </p:nvPr>
        </p:nvSpPr>
        <p:spPr>
          <a:xfrm>
            <a:off x="990720" y="766800"/>
            <a:ext cx="5118120" cy="3838680"/>
          </a:xfrm>
          <a:prstGeom prst="rect">
            <a:avLst/>
          </a:prstGeom>
          <a:ln w="0">
            <a:noFill/>
          </a:ln>
        </p:spPr>
      </p:sp>
      <p:sp>
        <p:nvSpPr>
          <p:cNvPr id="392"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0720" y="766800"/>
            <a:ext cx="5118120" cy="3838680"/>
          </a:xfrm>
          <a:prstGeom prst="rect">
            <a:avLst/>
          </a:prstGeom>
          <a:ln w="0">
            <a:noFill/>
          </a:ln>
        </p:spPr>
      </p:sp>
      <p:sp>
        <p:nvSpPr>
          <p:cNvPr id="394"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
        <p:nvSpPr>
          <p:cNvPr id="39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194D-32E4-4588-A2B8-DB8FA6F020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0720" y="766800"/>
            <a:ext cx="5118120" cy="3838680"/>
          </a:xfrm>
          <a:prstGeom prst="rect">
            <a:avLst/>
          </a:prstGeom>
          <a:ln w="0">
            <a:noFill/>
          </a:ln>
        </p:spPr>
      </p:sp>
      <p:sp>
        <p:nvSpPr>
          <p:cNvPr id="397"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
        <p:nvSpPr>
          <p:cNvPr id="398"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18EB-35FF-4C0E-964E-E3D4397FAA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0720" y="766800"/>
            <a:ext cx="5118120" cy="3838680"/>
          </a:xfrm>
          <a:prstGeom prst="rect">
            <a:avLst/>
          </a:prstGeom>
          <a:ln w="0">
            <a:noFill/>
          </a:ln>
        </p:spPr>
      </p:sp>
      <p:sp>
        <p:nvSpPr>
          <p:cNvPr id="400"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
        <p:nvSpPr>
          <p:cNvPr id="401"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8A67-1A5B-485F-B3E9-C0E28F08A2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0720" y="766800"/>
            <a:ext cx="5118120" cy="3838680"/>
          </a:xfrm>
          <a:prstGeom prst="rect">
            <a:avLst/>
          </a:prstGeom>
          <a:ln w="0">
            <a:noFill/>
          </a:ln>
        </p:spPr>
      </p:sp>
      <p:sp>
        <p:nvSpPr>
          <p:cNvPr id="403"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
        <p:nvSpPr>
          <p:cNvPr id="404"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9052-D206-4F12-91E0-2514738699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90720" y="766800"/>
            <a:ext cx="5118120" cy="3838680"/>
          </a:xfrm>
          <a:prstGeom prst="rect">
            <a:avLst/>
          </a:prstGeom>
          <a:ln w="0">
            <a:noFill/>
          </a:ln>
        </p:spPr>
      </p:sp>
      <p:sp>
        <p:nvSpPr>
          <p:cNvPr id="406" name="PlaceHolder 2"/>
          <p:cNvSpPr>
            <a:spLocks noGrp="1"/>
          </p:cNvSpPr>
          <p:nvPr>
            <p:ph type="body"/>
          </p:nvPr>
        </p:nvSpPr>
        <p:spPr>
          <a:xfrm>
            <a:off x="711000" y="4860720"/>
            <a:ext cx="5676840" cy="4606920"/>
          </a:xfrm>
          <a:prstGeom prst="rect">
            <a:avLst/>
          </a:prstGeom>
          <a:noFill/>
          <a:ln w="0">
            <a:noFill/>
          </a:ln>
        </p:spPr>
        <p:txBody>
          <a:bodyPr lIns="96480" rIns="96480" tIns="48240" bIns="48240" anchor="t">
            <a:noAutofit/>
          </a:bodyPr>
          <a:p>
            <a:pPr marL="276120" indent="-27612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Calibri"/>
              </a:rPr>
              <a:t>Offene Fragen bearbeiten</a:t>
            </a:r>
            <a:endParaRPr b="0" lang="en-US" sz="15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st Nachteilsausgleich auf der obligatorischen Bildungsstufe wünschenswert?</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ie weit lassen sich die Ergebnisse aus der Berufsbildung auf die obligatorische Bildungsstufe übertragen?</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as ist eine Behinderung? Was ist eine Benachteiligung? Welche Begriffe brauchen wir für den Nachteilsausgleich?</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er hat Anrecht auf Nachteilsausgleich?</a:t>
            </a:r>
            <a:endParaRPr b="0" lang="en-US" sz="1200" spc="-1" strike="noStrike">
              <a:solidFill>
                <a:srgbClr val="000000"/>
              </a:solidFill>
              <a:latin typeface="Calibri"/>
            </a:endParaRPr>
          </a:p>
          <a:p>
            <a:pPr marL="276120" indent="-27612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Calibri"/>
              </a:rPr>
              <a:t>Behinderungsarten/Benachteiligungen</a:t>
            </a:r>
            <a:endParaRPr b="0" lang="en-US" sz="15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Körperbehinderung</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Sehbehinderung</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Hörbehinderung</a:t>
            </a:r>
            <a:endParaRPr b="0" lang="en-US" sz="1200" spc="-1" strike="noStrike">
              <a:solidFill>
                <a:srgbClr val="000000"/>
              </a:solidFill>
              <a:latin typeface="Calibri"/>
            </a:endParaRPr>
          </a:p>
          <a:p>
            <a:pPr marL="276120" indent="-276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yslexie</a:t>
            </a:r>
            <a:endParaRPr b="0" lang="en-US" sz="1200" spc="-1" strike="noStrike">
              <a:solidFill>
                <a:srgbClr val="000000"/>
              </a:solidFill>
              <a:latin typeface="Calibri"/>
            </a:endParaRPr>
          </a:p>
          <a:p>
            <a:pPr marL="276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6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DC2B-F751-4768-8AD1-5B28A4B2A1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90720" y="766800"/>
            <a:ext cx="5118120" cy="3838680"/>
          </a:xfrm>
          <a:prstGeom prst="rect">
            <a:avLst/>
          </a:prstGeom>
          <a:ln w="0">
            <a:noFill/>
          </a:ln>
        </p:spPr>
      </p:sp>
      <p:sp>
        <p:nvSpPr>
          <p:cNvPr id="409" name="PlaceHolder 2"/>
          <p:cNvSpPr>
            <a:spLocks noGrp="1"/>
          </p:cNvSpPr>
          <p:nvPr>
            <p:ph type="body"/>
          </p:nvPr>
        </p:nvSpPr>
        <p:spPr>
          <a:xfrm>
            <a:off x="711000" y="4860720"/>
            <a:ext cx="56768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a typeface="ＭＳ Ｐゴシック"/>
            </a:endParaRPr>
          </a:p>
        </p:txBody>
      </p:sp>
      <p:sp>
        <p:nvSpPr>
          <p:cNvPr id="410"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F175-4977-4FF1-8640-3B20072497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F7AC-CBCE-4FFE-B189-B8A6BD986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9B145-B143-45C1-BA77-1682BF0F4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9BB15-7161-4598-ABF8-DC1DE413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34B69-ACA2-4ABA-A44D-781E1A76F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A664B-2481-4468-84F0-6C07C9817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39A0C-F8B2-4A6E-B064-E55F3493C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1E8D0-B7C9-4938-AC20-1520C5B38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B4360-A818-4ABD-A49A-39E4A0B9C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A9FF6-0E25-4A00-9C79-BB6AC347F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FC7AA-BB26-4B25-A494-90A22BA5E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5899-AEBC-4E74-B2C9-C7C1B7312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9C58-356B-44F8-9A4C-3DC1F367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8CDF6-80FD-4872-A00A-7B11B152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8D61A-705E-43D3-9667-111A5E3C4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E7465-049D-4EDA-B050-BD2660CB6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F7E4D-57BC-4F3F-851D-ADFAC7FB7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D1802-8D56-47D2-A707-6B3D851B4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CF0258-D903-4F3A-982F-75E95CFE5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E3340-5FC5-45F0-981B-DFCC34285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A1353-AD39-492A-BA47-FFF507C02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1C975-A77F-4AA5-9EBB-AAD7FF66B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AEE46-4CBA-41B5-AAA9-181E2CEE9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F4001-59DA-4D83-BEE4-C592E4BA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91843-4EDB-46B7-832E-60FEAC125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E4965-59E7-44E3-AE64-A8F79959E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B81E2-B49F-4F9C-BD6C-0A1664223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30F0D-9664-42F1-8DE8-ABF7C9A79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C2A93-AAA2-427C-AB1A-E619A7047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902F5-F0AF-452C-8108-6D10B6474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B7625-B23E-4C3E-BCF0-BBE91767F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11B9-B33D-4909-BEA1-D108F88D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DF30-EA13-4CBA-9243-4E7BBDD2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D9B69-7361-4FD3-9E7B-919B166E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9AEB-6913-4AE9-8C29-E625891B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47CC-F94C-4F92-B1EE-C4D6244A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EE3AC-D347-4D46-AB32-F9852CF6D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74D2-DFD7-47D4-B1EE-D5156D71A51B}"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ojekt Nachteilsausgleich - Fritz Stein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3F02-C2E6-416F-9F3F-CA584AFF0A56}"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DF1D-49FD-43BC-BA47-4C93FAAE1A82}"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123640" y="6356520"/>
            <a:ext cx="47516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2EE2-A84C-4817-8DE6-C08EE1436AA7}"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4AB9-B1E2-4773-9834-9A3D229A7D4A}"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626920" y="6356520"/>
            <a:ext cx="3745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4670-5283-4328-AB26-B2489CA69104}"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826920" y="6237360"/>
            <a:ext cx="2897280" cy="474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mailto:toni.kleeb@bsfh.ch" TargetMode="External"/><Relationship Id="rId2" Type="http://schemas.openxmlformats.org/officeDocument/2006/relationships/hyperlink" Target="mailto:silvia.schnyder@szh.ch" TargetMode="External"/><Relationship Id="rId3" Type="http://schemas.openxmlformats.org/officeDocument/2006/relationships/hyperlink" Target="mailto:myriam.jost@szh.ch" TargetMode="External"/><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2103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CH" sz="3600" spc="-1" strike="noStrike">
                <a:solidFill>
                  <a:srgbClr val="000000"/>
                </a:solidFill>
                <a:latin typeface="Calibri"/>
              </a:rPr>
              <a:t>Nachteilsausgleich für Menschen mit Behinderung in der Berufsbildung </a:t>
            </a:r>
            <a:br>
              <a:rPr sz="3600"/>
            </a:br>
            <a:r>
              <a:rPr b="0" lang="de-CH" sz="3600" spc="-1" strike="noStrike">
                <a:solidFill>
                  <a:srgbClr val="000000"/>
                </a:solidFill>
                <a:latin typeface="Calibri"/>
              </a:rPr>
              <a:t>(Fritz Steiner, SZB) </a:t>
            </a:r>
            <a:br>
              <a:rPr sz="3600"/>
            </a:br>
            <a:br>
              <a:rPr sz="3600"/>
            </a:br>
            <a:r>
              <a:rPr b="0" lang="de-CH" sz="3600" spc="-1" strike="noStrike">
                <a:solidFill>
                  <a:srgbClr val="000000"/>
                </a:solidFill>
                <a:latin typeface="Calibri"/>
              </a:rPr>
              <a:t>Mit ergänzendem Einblick </a:t>
            </a:r>
            <a:br>
              <a:rPr sz="3600"/>
            </a:br>
            <a:r>
              <a:rPr b="0" lang="de-CH" sz="3600" spc="-1" strike="noStrike">
                <a:solidFill>
                  <a:srgbClr val="000000"/>
                </a:solidFill>
                <a:latin typeface="Calibri"/>
              </a:rPr>
              <a:t>in Qualifikationsverfahren </a:t>
            </a:r>
            <a:br>
              <a:rPr sz="3600"/>
            </a:br>
            <a:r>
              <a:rPr b="0" lang="de-CH" sz="3600" spc="-1" strike="noStrike">
                <a:solidFill>
                  <a:srgbClr val="000000"/>
                </a:solidFill>
                <a:latin typeface="Calibri"/>
              </a:rPr>
              <a:t>(Toni Kleeb, BSFH) </a:t>
            </a:r>
            <a:br>
              <a:rPr sz="3600"/>
            </a:br>
            <a:r>
              <a:rPr b="0" lang="de-CH" sz="3600" spc="-1" strike="noStrike">
                <a:solidFill>
                  <a:srgbClr val="000000"/>
                </a:solidFill>
                <a:latin typeface="Calibri"/>
              </a:rPr>
              <a:t>und</a:t>
            </a:r>
            <a:br>
              <a:rPr sz="3600"/>
            </a:br>
            <a:r>
              <a:rPr b="0" lang="de-CH" sz="3600" spc="-1" strike="noStrike">
                <a:solidFill>
                  <a:srgbClr val="000000"/>
                </a:solidFill>
                <a:latin typeface="Calibri"/>
              </a:rPr>
              <a:t>Einblick in den Bereich Schule </a:t>
            </a:r>
            <a:br>
              <a:rPr sz="3600"/>
            </a:br>
            <a:r>
              <a:rPr b="0" lang="de-CH" sz="3600" spc="-1" strike="noStrike">
                <a:solidFill>
                  <a:srgbClr val="000000"/>
                </a:solidFill>
                <a:latin typeface="Calibri"/>
              </a:rPr>
              <a:t>(Silvia Schnyder, Myriam Jost, SZH)</a:t>
            </a:r>
            <a:endParaRPr b="0" lang="en-US" sz="3600" spc="-1" strike="noStrike">
              <a:solidFill>
                <a:srgbClr val="000000"/>
              </a:solidFill>
              <a:latin typeface="Calibri"/>
            </a:endParaRPr>
          </a:p>
        </p:txBody>
      </p:sp>
      <p:sp>
        <p:nvSpPr>
          <p:cNvPr id="170"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5E36-5FFC-4217-A9BF-CC7B00F03CC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Fußzeilenplatzhalter 4"/>
          <p:cNvSpPr/>
          <p:nvPr/>
        </p:nvSpPr>
        <p:spPr>
          <a:xfrm>
            <a:off x="2124000" y="6356520"/>
            <a:ext cx="475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Ziele des Projektes 2</a:t>
            </a:r>
            <a:endParaRPr b="0" lang="en-US" sz="4400" spc="-1" strike="noStrike">
              <a:solidFill>
                <a:srgbClr val="000000"/>
              </a:solidFill>
              <a:latin typeface="Calibri"/>
            </a:endParaRPr>
          </a:p>
        </p:txBody>
      </p:sp>
      <p:sp>
        <p:nvSpPr>
          <p:cNvPr id="208" name=""/>
          <p:cNvSpPr txBox="1"/>
          <p:nvPr/>
        </p:nvSpPr>
        <p:spPr>
          <a:xfrm>
            <a:off x="468360" y="990720"/>
            <a:ext cx="8229600" cy="45259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as Umfeld informieren, sensibilisieren und befähigen. </a:t>
            </a:r>
            <a:endParaRPr b="0" lang="en-US" sz="20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Hinweis: Die bisherigen Erfahrungen zeigen, dass die Befähigung voraussichtlich einen wesentlich grösseren Aufwand erfordert als ursprünglich angenommen. Die Kombination: Kenntnisse und Fertigkeiten im Bereich Behinderung  und Kenntnisse der Berufsbildung stellen hohe Anforderung. Ein Anschlussprojekt wird in Betracht gezogen. </a:t>
            </a:r>
            <a:endParaRPr b="0" lang="en-US" sz="16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ie Möglichkeiten und die Instrumente des Nachteilsaugleichs für Menschen mit Behinderung in der Berufsbildung und in Qualifikationsverfahren bekannter machen.</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ntwicklung des erforderlichen Netzwerkes mit den entsprechenden Kompetenzen: </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ehinderung </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kompensatorische Techniken </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erufsbildung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9"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53B2-A892-44AD-8FA0-D390C968BAF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ußzeilenplatzhalter 4"/>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ojekt Nachteilsausgleich - Fritz Stei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000000"/>
                </a:solidFill>
                <a:latin typeface="Calibri"/>
              </a:rPr>
              <a:t>Erfreulich: Gesetzlichen Grundlagen sind weitgehend gegeben</a:t>
            </a:r>
            <a:endParaRPr b="0" lang="en-US" sz="3000" spc="-1" strike="noStrike">
              <a:solidFill>
                <a:srgbClr val="000000"/>
              </a:solidFill>
              <a:latin typeface="Calibri"/>
            </a:endParaRPr>
          </a:p>
        </p:txBody>
      </p:sp>
      <p:sp>
        <p:nvSpPr>
          <p:cNvPr id="212" name=""/>
          <p:cNvSpPr txBox="1"/>
          <p:nvPr/>
        </p:nvSpPr>
        <p:spPr>
          <a:xfrm>
            <a:off x="500040" y="1557360"/>
            <a:ext cx="8229600" cy="43927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Gesetzliche Grundlagen  (Gewisse Unklarheiten bestehen noch. Z.B. Begriff Erleichtung in der Berufsbildungsverordnung)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Wichtig ist die Einflussnahme auf aktuelle Prozesse der Gesetzesentwicklung (Beispiel Weiterbildungsgesetz) und Prozessen der Bildungsplanung und Steuerung. </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achwissen und Fachfertigkeiten ist weiter zu entwickeln und das erforderliche Umdenken zu fördern. </a:t>
            </a:r>
            <a:endParaRPr b="0" lang="en-US" sz="3200" spc="-1" strike="noStrike">
              <a:solidFill>
                <a:srgbClr val="000000"/>
              </a:solidFill>
              <a:latin typeface="Calibri"/>
            </a:endParaRPr>
          </a:p>
        </p:txBody>
      </p:sp>
      <p:sp>
        <p:nvSpPr>
          <p:cNvPr id="213"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64F6-DDE9-49DB-A6DD-C5A55FEB2AC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Zugang zu Organisationen</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ergeben sich 2 Ebenen:</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nformation, Sensibilisierung, Vernetzung, Akzeptanz (Einbezug in Vernehmlassungsphasen) </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Erarbeitung der behindertenspezifischen Inhalte (Integration in die erweiterte Projektgruppe)</a:t>
            </a:r>
            <a:endParaRPr b="0" lang="en-US" sz="28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514440">
              <a:spcBef>
                <a:spcPts val="700"/>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A2C7-B37A-4840-95D5-4ACC4D879FA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Calibri"/>
              </a:rPr>
              <a:t>Wen wollen wir erreichen? (1)</a:t>
            </a:r>
            <a:endParaRPr b="0" lang="en-US" sz="3600" spc="-1" strike="noStrike">
              <a:solidFill>
                <a:srgbClr val="000000"/>
              </a:solidFill>
              <a:latin typeface="Calibri"/>
            </a:endParaRPr>
          </a:p>
        </p:txBody>
      </p:sp>
      <p:sp>
        <p:nvSpPr>
          <p:cNvPr id="220" name=""/>
          <p:cNvSpPr txBox="1"/>
          <p:nvPr/>
        </p:nvSpPr>
        <p:spPr>
          <a:xfrm>
            <a:off x="468360" y="1268280"/>
            <a:ext cx="8229600" cy="489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Menschen mit Behinderung in Ausbildung und/oder in Qualifikatonsverfahren und deren Angehörig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ulen der Sekundarstufe 1 und 2 (Berufsorientieru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llgemeine Berufsberatu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erufsberatung der IV-Stell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Lehrmeister und Personalverantwortliche in Wirtschaft und Verwaltu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erufsfachschul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usbildungsstellen der Berufsbildung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Prüfungsverantwortlich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91A1-7A0E-434B-A23D-266311081B0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Plus 11"/>
          <p:cNvSpPr/>
          <p:nvPr/>
        </p:nvSpPr>
        <p:spPr>
          <a:xfrm>
            <a:off x="6948360" y="141300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23" name="Plus 13"/>
          <p:cNvSpPr/>
          <p:nvPr/>
        </p:nvSpPr>
        <p:spPr>
          <a:xfrm>
            <a:off x="5580000" y="306864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24" name="Plus 14"/>
          <p:cNvSpPr/>
          <p:nvPr/>
        </p:nvSpPr>
        <p:spPr>
          <a:xfrm>
            <a:off x="5651640" y="450864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3" h="360363">
                <a:moveTo>
                  <a:pt x="47766" y="137803"/>
                </a:moveTo>
                <a:lnTo>
                  <a:pt x="137803" y="137803"/>
                </a:lnTo>
                <a:lnTo>
                  <a:pt x="137803" y="47766"/>
                </a:lnTo>
                <a:lnTo>
                  <a:pt x="222560" y="47766"/>
                </a:lnTo>
                <a:lnTo>
                  <a:pt x="222560" y="137803"/>
                </a:lnTo>
                <a:lnTo>
                  <a:pt x="312597" y="137803"/>
                </a:lnTo>
                <a:lnTo>
                  <a:pt x="312597" y="222560"/>
                </a:lnTo>
                <a:lnTo>
                  <a:pt x="222560" y="222560"/>
                </a:lnTo>
                <a:lnTo>
                  <a:pt x="222560" y="312597"/>
                </a:lnTo>
                <a:lnTo>
                  <a:pt x="137803" y="312597"/>
                </a:lnTo>
                <a:lnTo>
                  <a:pt x="137803"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25" name="Plus 15"/>
          <p:cNvSpPr/>
          <p:nvPr/>
        </p:nvSpPr>
        <p:spPr>
          <a:xfrm>
            <a:off x="5724360" y="566100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3" h="360363">
                <a:moveTo>
                  <a:pt x="47766" y="137803"/>
                </a:moveTo>
                <a:lnTo>
                  <a:pt x="137803" y="137803"/>
                </a:lnTo>
                <a:lnTo>
                  <a:pt x="137803" y="47766"/>
                </a:lnTo>
                <a:lnTo>
                  <a:pt x="222560" y="47766"/>
                </a:lnTo>
                <a:lnTo>
                  <a:pt x="222560" y="137803"/>
                </a:lnTo>
                <a:lnTo>
                  <a:pt x="312597" y="137803"/>
                </a:lnTo>
                <a:lnTo>
                  <a:pt x="312597" y="222560"/>
                </a:lnTo>
                <a:lnTo>
                  <a:pt x="222560" y="222560"/>
                </a:lnTo>
                <a:lnTo>
                  <a:pt x="222560" y="312597"/>
                </a:lnTo>
                <a:lnTo>
                  <a:pt x="137803" y="312597"/>
                </a:lnTo>
                <a:lnTo>
                  <a:pt x="137803"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26"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Calibri"/>
              </a:rPr>
              <a:t>Wen wollen wir erreichen? (2)</a:t>
            </a:r>
            <a:endParaRPr b="0" lang="en-US" sz="3600" spc="-1" strike="noStrike">
              <a:solidFill>
                <a:srgbClr val="000000"/>
              </a:solidFill>
              <a:latin typeface="Calibri"/>
            </a:endParaRPr>
          </a:p>
        </p:txBody>
      </p:sp>
      <p:sp>
        <p:nvSpPr>
          <p:cNvPr id="228" name=""/>
          <p:cNvSpPr txBox="1"/>
          <p:nvPr/>
        </p:nvSpPr>
        <p:spPr>
          <a:xfrm>
            <a:off x="539640" y="1279440"/>
            <a:ext cx="8229600" cy="4525920"/>
          </a:xfrm>
          <a:prstGeom prst="rect">
            <a:avLst/>
          </a:prstGeom>
          <a:noFill/>
          <a:ln w="0">
            <a:noFill/>
          </a:ln>
        </p:spPr>
        <p:txBody>
          <a:bodyPr anchor="t">
            <a:normAutofit fontScale="84000"/>
          </a:bodyPr>
          <a:p>
            <a:pPr marL="432000" indent="-43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Nationale Amtsstellen</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BT (Bundesamt für Berufsbildung und Technologie) – BBT leistet finanzielle Beiträge an das Projekt. </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SV  (Bundesamt für Sozialversicherung)</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BGB (Eidgenössisches Büro für die Gleichstellung  von Menschen mit Behinderung) </a:t>
            </a:r>
            <a:endParaRPr b="0" lang="en-US" sz="2000" spc="-1" strike="noStrike">
              <a:solidFill>
                <a:srgbClr val="000000"/>
              </a:solidFill>
              <a:latin typeface="Calibri"/>
            </a:endParaRPr>
          </a:p>
          <a:p>
            <a:pPr marL="432000" indent="-43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Nationale Organisationen</a:t>
            </a:r>
            <a:endParaRPr b="0" lang="en-US" sz="2000" spc="-1" strike="noStrike">
              <a:solidFill>
                <a:srgbClr val="000000"/>
              </a:solidFill>
              <a:latin typeface="Calibri"/>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Schweizerischer Arbeitgeberverband</a:t>
            </a:r>
            <a:endParaRPr b="0" lang="en-US" sz="1600" spc="-1" strike="noStrike">
              <a:solidFill>
                <a:srgbClr val="000000"/>
              </a:solidFill>
              <a:latin typeface="Calibri"/>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Travail Suisse</a:t>
            </a:r>
            <a:endParaRPr b="0" lang="en-US" sz="1600" spc="-1" strike="noStrike">
              <a:solidFill>
                <a:srgbClr val="000000"/>
              </a:solidFill>
              <a:latin typeface="Calibri"/>
            </a:endParaRPr>
          </a:p>
          <a:p>
            <a:pPr marL="432000" indent="-43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terkantonale Stellen</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weizerische Berufsbildungsämter-Konferenz</a:t>
            </a:r>
            <a:endParaRPr b="0" lang="en-US" sz="2000" spc="-1" strike="noStrike">
              <a:solidFill>
                <a:srgbClr val="000000"/>
              </a:solidFill>
              <a:latin typeface="Calibri"/>
            </a:endParaRPr>
          </a:p>
          <a:p>
            <a:pPr lvl="2" marL="960120" indent="-191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Kommission betriebliche Grundbildung</a:t>
            </a:r>
            <a:endParaRPr b="0" lang="en-US" sz="1600" spc="-1" strike="noStrike">
              <a:solidFill>
                <a:srgbClr val="000000"/>
              </a:solidFill>
              <a:latin typeface="Calibri"/>
            </a:endParaRPr>
          </a:p>
          <a:p>
            <a:pPr lvl="2" marL="960120" indent="-191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Kommission Qualifikationsverfahren</a:t>
            </a:r>
            <a:endParaRPr b="0" lang="en-US" sz="16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DBB Schweizerisches Dienstleistungszentrum Berufsbildung | Berufs-, Studien- und Laufbahnberatung Bern</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ZH Schweizer Zentrum für Heil- und Sonderpädagogik Bern </a:t>
            </a:r>
            <a:endParaRPr b="0" lang="en-US" sz="2000" spc="-1" strike="noStrike">
              <a:solidFill>
                <a:srgbClr val="000000"/>
              </a:solidFill>
              <a:latin typeface="Calibri"/>
            </a:endParaRPr>
          </a:p>
          <a:p>
            <a:pPr marL="432000" indent="-432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9600-E2EC-45EC-ADE9-213A7B00E72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Plus 6"/>
          <p:cNvSpPr/>
          <p:nvPr/>
        </p:nvSpPr>
        <p:spPr>
          <a:xfrm>
            <a:off x="8532720" y="162864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31" name="Plus 7"/>
          <p:cNvSpPr/>
          <p:nvPr/>
        </p:nvSpPr>
        <p:spPr>
          <a:xfrm>
            <a:off x="8532720" y="2133720"/>
            <a:ext cx="360360" cy="358560"/>
          </a:xfrm>
          <a:custGeom>
            <a:avLst/>
            <a:gdLst>
              <a:gd name="textAreaLeft" fmla="*/ 47520 w 360360"/>
              <a:gd name="textAreaRight" fmla="*/ 312840 w 360360"/>
              <a:gd name="textAreaTop" fmla="*/ 137160 h 358560"/>
              <a:gd name="textAreaBottom" fmla="*/ 221400 h 358560"/>
            </a:gdLst>
            <a:ahLst/>
            <a:rect l="textAreaLeft" t="textAreaTop" r="textAreaRight" b="textAreaBottom"/>
            <a:pathLst>
              <a:path w="360362" h="358775">
                <a:moveTo>
                  <a:pt x="47766" y="137196"/>
                </a:moveTo>
                <a:lnTo>
                  <a:pt x="137989" y="137196"/>
                </a:lnTo>
                <a:lnTo>
                  <a:pt x="137989" y="47556"/>
                </a:lnTo>
                <a:lnTo>
                  <a:pt x="222373" y="47556"/>
                </a:lnTo>
                <a:lnTo>
                  <a:pt x="222373" y="137196"/>
                </a:lnTo>
                <a:lnTo>
                  <a:pt x="312596" y="137196"/>
                </a:lnTo>
                <a:lnTo>
                  <a:pt x="312596" y="221579"/>
                </a:lnTo>
                <a:lnTo>
                  <a:pt x="222373" y="221579"/>
                </a:lnTo>
                <a:lnTo>
                  <a:pt x="222373" y="311219"/>
                </a:lnTo>
                <a:lnTo>
                  <a:pt x="137989" y="311219"/>
                </a:lnTo>
                <a:lnTo>
                  <a:pt x="137989" y="221579"/>
                </a:lnTo>
                <a:lnTo>
                  <a:pt x="47766" y="221579"/>
                </a:lnTo>
                <a:close/>
              </a:path>
            </a:pathLst>
          </a:custGeom>
          <a:solidFill>
            <a:srgbClr val="4f81bd"/>
          </a:solidFill>
          <a:ln w="25560">
            <a:solidFill>
              <a:srgbClr val="385d8a"/>
            </a:solidFill>
            <a:roun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32" name="Plus 8"/>
          <p:cNvSpPr/>
          <p:nvPr/>
        </p:nvSpPr>
        <p:spPr>
          <a:xfrm>
            <a:off x="8532720" y="278136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33" name="Plus 9"/>
          <p:cNvSpPr/>
          <p:nvPr/>
        </p:nvSpPr>
        <p:spPr>
          <a:xfrm>
            <a:off x="8532720" y="4149720"/>
            <a:ext cx="360360" cy="358920"/>
          </a:xfrm>
          <a:custGeom>
            <a:avLst/>
            <a:gdLst>
              <a:gd name="textAreaLeft" fmla="*/ 47520 w 360360"/>
              <a:gd name="textAreaRight" fmla="*/ 312840 w 360360"/>
              <a:gd name="textAreaTop" fmla="*/ 137160 h 358920"/>
              <a:gd name="textAreaBottom" fmla="*/ 221760 h 358920"/>
            </a:gdLst>
            <a:ahLst/>
            <a:rect l="textAreaLeft" t="textAreaTop" r="textAreaRight" b="textAreaBottom"/>
            <a:pathLst>
              <a:path w="360362" h="358775">
                <a:moveTo>
                  <a:pt x="47766" y="137196"/>
                </a:moveTo>
                <a:lnTo>
                  <a:pt x="137989" y="137196"/>
                </a:lnTo>
                <a:lnTo>
                  <a:pt x="137989" y="47556"/>
                </a:lnTo>
                <a:lnTo>
                  <a:pt x="222373" y="47556"/>
                </a:lnTo>
                <a:lnTo>
                  <a:pt x="222373" y="137196"/>
                </a:lnTo>
                <a:lnTo>
                  <a:pt x="312596" y="137196"/>
                </a:lnTo>
                <a:lnTo>
                  <a:pt x="312596" y="221579"/>
                </a:lnTo>
                <a:lnTo>
                  <a:pt x="222373" y="221579"/>
                </a:lnTo>
                <a:lnTo>
                  <a:pt x="222373" y="311219"/>
                </a:lnTo>
                <a:lnTo>
                  <a:pt x="137989" y="311219"/>
                </a:lnTo>
                <a:lnTo>
                  <a:pt x="137989" y="221579"/>
                </a:lnTo>
                <a:lnTo>
                  <a:pt x="47766" y="221579"/>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34" name="Plus 10"/>
          <p:cNvSpPr/>
          <p:nvPr/>
        </p:nvSpPr>
        <p:spPr>
          <a:xfrm>
            <a:off x="8685360" y="522936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35" name="Plus 11"/>
          <p:cNvSpPr/>
          <p:nvPr/>
        </p:nvSpPr>
        <p:spPr>
          <a:xfrm>
            <a:off x="8675640" y="580536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Calibri"/>
              </a:rPr>
              <a:t>Wen wollen wir erreichen? (3)</a:t>
            </a:r>
            <a:endParaRPr b="0" lang="en-US" sz="3600" spc="-1" strike="noStrike">
              <a:solidFill>
                <a:srgbClr val="000000"/>
              </a:solidFill>
              <a:latin typeface="Calibri"/>
            </a:endParaRPr>
          </a:p>
        </p:txBody>
      </p:sp>
      <p:sp>
        <p:nvSpPr>
          <p:cNvPr id="237" name=""/>
          <p:cNvSpPr txBox="1"/>
          <p:nvPr/>
        </p:nvSpPr>
        <p:spPr>
          <a:xfrm>
            <a:off x="539640" y="1279440"/>
            <a:ext cx="8229600" cy="4525920"/>
          </a:xfrm>
          <a:prstGeom prst="rect">
            <a:avLst/>
          </a:prstGeom>
          <a:noFill/>
          <a:ln w="0">
            <a:noFill/>
          </a:ln>
        </p:spPr>
        <p:txBody>
          <a:bodyPr anchor="t">
            <a:normAutofit/>
          </a:bodyPr>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terkantonale Stell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weizerische Berufsbildungsämter-Konferenz</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Kommission betriebliche Grundbildu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Kommission Qualifikationsverfahren</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DBB Schweizerisches Dienstleistungszentrum Berufsbildung | Berufs-, Studien- und Laufbahnberatung Ber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ZH Schweizer Zentrum für Heil- und Sonderpädagogik Bern </a:t>
            </a:r>
            <a:endParaRPr b="0" lang="en-US" sz="20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C0E4-2025-44F1-BBEF-E153FC4C15B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9" name="Plus 6"/>
          <p:cNvSpPr/>
          <p:nvPr/>
        </p:nvSpPr>
        <p:spPr>
          <a:xfrm>
            <a:off x="8532720" y="162864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40" name="Plus 7"/>
          <p:cNvSpPr/>
          <p:nvPr/>
        </p:nvSpPr>
        <p:spPr>
          <a:xfrm>
            <a:off x="8532720" y="263700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41" name="Plus 8"/>
          <p:cNvSpPr/>
          <p:nvPr/>
        </p:nvSpPr>
        <p:spPr>
          <a:xfrm>
            <a:off x="8532720" y="3213000"/>
            <a:ext cx="360360" cy="360360"/>
          </a:xfrm>
          <a:custGeom>
            <a:avLst/>
            <a:gdLst>
              <a:gd name="textAreaLeft" fmla="*/ 47520 w 360360"/>
              <a:gd name="textAreaRight" fmla="*/ 312840 w 360360"/>
              <a:gd name="textAreaTop" fmla="*/ 137880 h 360360"/>
              <a:gd name="textAreaBottom" fmla="*/ 22248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close/>
              </a:path>
            </a:pathLst>
          </a:custGeom>
          <a:solidFill>
            <a:srgbClr val="4f81bd"/>
          </a:solidFill>
          <a:ln w="25560">
            <a:solidFill>
              <a:srgbClr val="385d8a"/>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242"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Mitglieder des erweiterten Projektteams </a:t>
            </a:r>
            <a:br>
              <a:rPr sz="2800"/>
            </a:br>
            <a:r>
              <a:rPr b="0" lang="de-DE" sz="2800" spc="-1" strike="noStrike">
                <a:solidFill>
                  <a:srgbClr val="000000"/>
                </a:solidFill>
                <a:latin typeface="Calibri"/>
              </a:rPr>
              <a:t>(Stand März 2011)</a:t>
            </a:r>
            <a:endParaRPr b="0" lang="en-US" sz="2800" spc="-1" strike="noStrike">
              <a:solidFill>
                <a:srgbClr val="000000"/>
              </a:solidFill>
              <a:latin typeface="Calibri"/>
            </a:endParaRPr>
          </a:p>
        </p:txBody>
      </p:sp>
      <p:sp>
        <p:nvSpPr>
          <p:cNvPr id="244" name=""/>
          <p:cNvSpPr txBox="1"/>
          <p:nvPr/>
        </p:nvSpPr>
        <p:spPr>
          <a:xfrm>
            <a:off x="179280" y="1196640"/>
            <a:ext cx="8964720" cy="5111640"/>
          </a:xfrm>
          <a:prstGeom prst="rect">
            <a:avLst/>
          </a:prstGeom>
          <a:noFill/>
          <a:ln w="0">
            <a:noFill/>
          </a:ln>
        </p:spPr>
        <p:txBody>
          <a:bodyPr anchor="t">
            <a:normAutofit/>
          </a:bodyPr>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ZB  Schweizerischer Zentralverein für das Blindenwesen</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SFH Berufsschule für Hörgeschädigte – Gehörlosenbund</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erband Dyslexie Schweiz</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utismus Schweiz</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yspraxie  </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lpos Schweiz (</a:t>
            </a:r>
            <a:r>
              <a:rPr b="0" lang="de-CH" sz="2400" spc="-1" strike="noStrike">
                <a:solidFill>
                  <a:srgbClr val="000000"/>
                </a:solidFill>
                <a:latin typeface="Calibri"/>
              </a:rPr>
              <a:t>Elternverein f. Kinder u. Jugendlichen m. POS/ADS Syndrom)</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raplegie</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ro Mente Sana</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örsehbehinderte</a:t>
            </a:r>
            <a:endParaRPr b="0" lang="en-US" sz="2400" spc="-1" strike="noStrike">
              <a:solidFill>
                <a:srgbClr val="000000"/>
              </a:solidFill>
              <a:latin typeface="Calibri"/>
            </a:endParaRPr>
          </a:p>
          <a:p>
            <a:pPr lvl="1" marL="914400" indent="-5144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GILE Behinderten-Selbsthilfe Schweiz </a:t>
            </a:r>
            <a:endParaRPr b="0" lang="en-US" sz="2000" spc="-1" strike="noStrike">
              <a:solidFill>
                <a:srgbClr val="000000"/>
              </a:solidFill>
              <a:latin typeface="Calibri"/>
            </a:endParaRPr>
          </a:p>
          <a:p>
            <a:pPr lvl="1" marL="914400" indent="-5144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SZH  </a:t>
            </a:r>
            <a:r>
              <a:rPr b="0" lang="de-CH" sz="2000" spc="-1" strike="noStrike">
                <a:solidFill>
                  <a:srgbClr val="000000"/>
                </a:solidFill>
                <a:latin typeface="Calibri"/>
              </a:rPr>
              <a:t>Schweizerisches Zentrum für Heilpädagogik</a:t>
            </a:r>
            <a:endParaRPr b="0" lang="en-US" sz="2000" spc="-1" strike="noStrike">
              <a:solidFill>
                <a:srgbClr val="000000"/>
              </a:solidFill>
              <a:latin typeface="Calibri"/>
            </a:endParaRPr>
          </a:p>
        </p:txBody>
      </p:sp>
      <p:sp>
        <p:nvSpPr>
          <p:cNvPr id="245"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8C01-8679-4B20-BEF4-307B54246F4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836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G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 Infirm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 Audit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O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tegration Handica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galité Handica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Gleichstellungsr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Calibri"/>
              </a:rPr>
              <a:t>Weitere Kontakte zu Organisationen</a:t>
            </a:r>
            <a:endParaRPr b="0" lang="en-US" sz="3600" spc="-1" strike="noStrike">
              <a:solidFill>
                <a:srgbClr val="000000"/>
              </a:solidFill>
              <a:latin typeface="Calibri"/>
            </a:endParaRPr>
          </a:p>
        </p:txBody>
      </p:sp>
      <p:sp>
        <p:nvSpPr>
          <p:cNvPr id="2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971A-CC49-47A7-8023-A095F3E86E0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341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ratungsstellen an Universität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Zürcher Hochschule für angewandte Wissenschaft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HfH Hochschule für Heilpädagogi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Kontakte zu Hochschulen</a:t>
            </a:r>
            <a:endParaRPr b="0" lang="en-US" sz="4400" spc="-1" strike="noStrike">
              <a:solidFill>
                <a:srgbClr val="000000"/>
              </a:solidFill>
              <a:latin typeface="Calibri"/>
            </a:endParaRPr>
          </a:p>
        </p:txBody>
      </p:sp>
      <p:sp>
        <p:nvSpPr>
          <p:cNvPr id="25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D0CF-9E31-46A0-924B-9912250B445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4"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3510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Entwickler Bildungsbericht 20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eiterbildungsgesetz: Expertengruppe</a:t>
            </a:r>
            <a:endParaRPr b="0" lang="en-US" sz="32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Weitere Kontakte</a:t>
            </a:r>
            <a:endParaRPr b="0" lang="en-US" sz="4400" spc="-1" strike="noStrike">
              <a:solidFill>
                <a:srgbClr val="000000"/>
              </a:solidFill>
              <a:latin typeface="Calibri"/>
            </a:endParaRPr>
          </a:p>
        </p:txBody>
      </p:sp>
      <p:sp>
        <p:nvSpPr>
          <p:cNvPr id="25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CCC2-8EB3-410C-91C7-C3BB90CE792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173" name="PlaceHolder 2"/>
          <p:cNvSpPr>
            <a:spLocks noGrp="1"/>
          </p:cNvSpPr>
          <p:nvPr>
            <p:ph type="subTitle"/>
          </p:nvPr>
        </p:nvSpPr>
        <p:spPr>
          <a:xfrm>
            <a:off x="1371600" y="2133360"/>
            <a:ext cx="6400800" cy="381636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4"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8C00-C357-456B-8940-2F110386BE8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Fußzeilenplatzhalter 4"/>
          <p:cNvSpPr/>
          <p:nvPr/>
        </p:nvSpPr>
        <p:spPr>
          <a:xfrm>
            <a:off x="2556000" y="6237360"/>
            <a:ext cx="4824360" cy="48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Rechteck 5"/>
          <p:cNvSpPr/>
          <p:nvPr/>
        </p:nvSpPr>
        <p:spPr>
          <a:xfrm>
            <a:off x="250920" y="549360"/>
            <a:ext cx="8497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rogram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ritz Steiner, SZB</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Einführung und Überblick</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Ausgangslag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Ziele des Projekt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Defini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Gesetzliche Grundlage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 </a:t>
            </a:r>
            <a:r>
              <a:rPr b="0" lang="de-CH" sz="1800" spc="-1" strike="noStrike">
                <a:solidFill>
                  <a:srgbClr val="000000"/>
                </a:solidFill>
                <a:latin typeface="Arial"/>
                <a:ea typeface="Arial"/>
              </a:rPr>
              <a:t>Allgemeine Informationen zu behinderungsbedingten Anpassung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oni Kleeb, BSFH</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Vorstellung der Empfehlung Nr. 25 Nachteilsausgleichsmassnahmen für das Qualifikationsverfahren von Kandidatinnen und Kandidatinnen und Kandidaten  der SBBK/SDBB Kommission Qualifikationsverfah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ilvia Schnyder, Myriam Jost, SZH</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ea typeface="Arial"/>
              </a:rPr>
              <a:t>Weiterführung des Projekts für den schulischen Berei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kussio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Kontaktadressen:</a:t>
            </a:r>
            <a:endParaRPr b="0" lang="en-US" sz="4400" spc="-1" strike="noStrike">
              <a:solidFill>
                <a:srgbClr val="000000"/>
              </a:solidFill>
              <a:latin typeface="Calibri"/>
            </a:endParaRPr>
          </a:p>
        </p:txBody>
      </p:sp>
      <p:sp>
        <p:nvSpPr>
          <p:cNvPr id="26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7DC4-B093-48D7-AA5A-4E5262B2A86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
          <p:cNvSpPr txBox="1"/>
          <p:nvPr/>
        </p:nvSpPr>
        <p:spPr>
          <a:xfrm>
            <a:off x="457200" y="1279080"/>
            <a:ext cx="8229600" cy="510228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Fritz Steiner, Projektleiter</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Bahnhofstrasse 34 , 4143 Dornach</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Tel. 061 701 57 92</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Mobile:  079 692 02 64</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E-Mail: fritz.steiner@irlen.ch</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Toni Kleeb</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Rektor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Berufsschule für Hörgeschädigte, Schaffhauserstrasse 430, 8050 Zürich ZH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Tel. 044 302 06 00</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 </a:t>
            </a:r>
            <a:r>
              <a:rPr b="0" lang="de-CH" sz="1600" spc="-1" strike="noStrike">
                <a:solidFill>
                  <a:srgbClr val="000000"/>
                </a:solidFill>
                <a:latin typeface="Calibri"/>
              </a:rPr>
              <a:t>E-Mail: </a:t>
            </a:r>
            <a:r>
              <a:rPr b="0" lang="de-CH" sz="1600" spc="-1" strike="noStrike" u="sng">
                <a:solidFill>
                  <a:srgbClr val="0000ff"/>
                </a:solidFill>
                <a:uFillTx/>
                <a:latin typeface="Calibri"/>
                <a:hlinkClick r:id="rId1"/>
              </a:rPr>
              <a:t>toni.kleeb@bsfh.ch</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Silvia Schnyder, Myriam Jost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SZH / CSPS</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Speichergasse 6</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3000 Bern 7</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Tel  031 320 16 60</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u="sng">
                <a:solidFill>
                  <a:srgbClr val="0000ff"/>
                </a:solidFill>
                <a:uFillTx/>
                <a:latin typeface="Calibri"/>
                <a:hlinkClick r:id="rId2"/>
              </a:rPr>
              <a:t>silvia.schnyder@szh.ch</a:t>
            </a:r>
            <a:r>
              <a:rPr b="0" lang="de-CH" sz="1600" spc="-1" strike="noStrike" u="sng">
                <a:solidFill>
                  <a:srgbClr val="000000"/>
                </a:solidFill>
                <a:uFillTx/>
                <a:latin typeface="Calibri"/>
              </a:rPr>
              <a:t>, </a:t>
            </a:r>
            <a:r>
              <a:rPr b="0" lang="de-CH" sz="1600" spc="-1" strike="noStrike" u="sng">
                <a:solidFill>
                  <a:srgbClr val="0000ff"/>
                </a:solidFill>
                <a:uFillTx/>
                <a:latin typeface="Calibri"/>
                <a:hlinkClick r:id="rId3"/>
              </a:rPr>
              <a:t>myriam.jost@szh.ch</a:t>
            </a:r>
            <a:r>
              <a:rPr b="0" lang="de-CH" sz="1600" spc="-1" strike="noStrike" u="sng">
                <a:solidFill>
                  <a:srgbClr val="000000"/>
                </a:solidFill>
                <a:uFillTx/>
                <a:latin typeface="Calibri"/>
              </a:rPr>
              <a:t>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CHTEILSAUSGLEICHSMASSNAHMEN FÜR DAS QUALIFIKATIONSVERFAH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ON KANDIDATINNEN UND KANDIDATEN MIT HÖRBEHINDERU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schluss der SBBK/SDBB Kommission Qualifikationsverfahren vom 16. März 20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6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EADD-FB93-42D0-83D5-F11C0E3F634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1. Rechtsgrundl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s gelten die Artikel 3 Abs. c, 7 und 18 des Bundesgesetzes über die Berufsbildung (BBG) vom 13. Dezember 2002 sowie Art. 35 Abs. c der dazugehörigen Berufsbildungsverordnung (BBV) vom 19. November 200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6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64E6-F5F2-4E8F-8ACF-DF2754D39D1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2.  Hörbehinderu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e Hörbehinderung ist eine unsichtbare Behinderung. Aus pädagogischer Sicht können Hörschädigungen vereinfacht wie folgt unterschieden werde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_x0001_ </a:t>
            </a:r>
            <a:r>
              <a:rPr b="0" lang="de-CH" sz="2000" spc="-1" strike="noStrike">
                <a:solidFill>
                  <a:srgbClr val="000000"/>
                </a:solidFill>
                <a:latin typeface="Calibri"/>
              </a:rPr>
              <a:t>gehörl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_x0001_ </a:t>
            </a:r>
            <a:r>
              <a:rPr b="0" lang="de-CH" sz="2000" spc="-1" strike="noStrike">
                <a:solidFill>
                  <a:srgbClr val="000000"/>
                </a:solidFill>
                <a:latin typeface="Calibri"/>
              </a:rPr>
              <a:t>schwerhöri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_x0001_ </a:t>
            </a:r>
            <a:r>
              <a:rPr b="0" lang="de-CH" sz="2000" spc="-1" strike="noStrike">
                <a:solidFill>
                  <a:srgbClr val="000000"/>
                </a:solidFill>
                <a:latin typeface="Calibri"/>
              </a:rPr>
              <a:t>spätertaub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_x0001_ </a:t>
            </a:r>
            <a:r>
              <a:rPr b="0" lang="de-CH" sz="2000" spc="-1" strike="noStrike">
                <a:solidFill>
                  <a:srgbClr val="000000"/>
                </a:solidFill>
                <a:latin typeface="Calibri"/>
              </a:rPr>
              <a:t>CI-Träger/innen.</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 der Praxis erfordern verschiedene Kategorien von Hörbehinderungen unterschiedliche, auf den Einzelnen zugeschnittene Nachteilsausgleichsmassnahmen.</a:t>
            </a:r>
            <a:endParaRPr b="0" lang="en-US" sz="2400" spc="-1" strike="noStrike">
              <a:solidFill>
                <a:srgbClr val="000000"/>
              </a:solidFill>
              <a:latin typeface="Calibri"/>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7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877E-42C0-4F80-BBB3-474F34839A3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Gehörl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e angeborene oder im frühesten Kindesalter eingetretene Hörschädigung ist so stark, dass sich dieSprache nicht natürlich über das Gehör entwickelt.Gehörlose Menschen orientieren sich aufgrund ihres früh eingetretenen hochgradigen Hördefizits vorallem visuell in ihrer Umwelt. Lautsprachliche Kommunikation ist auch mit einer hörprothetischen Versorgung mit Stress und Einschränkungen verbunden (Lippenlesen). Der Wortschatz ist meist sehr stark eingeengt und hinsichtlich Grammatik und Syntax erheblich gemindert.</a:t>
            </a:r>
            <a:endParaRPr b="0" lang="en-US" sz="2400" spc="-1" strike="noStrike">
              <a:solidFill>
                <a:srgbClr val="000000"/>
              </a:solidFill>
              <a:latin typeface="Calibri"/>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7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0C41-295F-412F-A643-38C20882A62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7"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chwerhöri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s Hörvermögen ist mehr oder weniger eingeschränkt (leicht-, mittel- oder hochgradige Schwerhörigkeit), aber doch noch so gut, dass mindestens mit Hörverstärkung die Sprachentwicklung spontan einsetzt, also Sprachaufnahme über das Gehör möglich ist. Schwerhörige Menschen haben aufgrund ihrer erschwerten und zum Teil eingeschränkten Lautsprachentwicklung spezifische Defizite im Aufnehmen und Verarbeiten von Sprache. Das Sprachverständnis bleibt auch bei optimal versorgten Hörgeräteträger/innen eingeschränkt.</a:t>
            </a:r>
            <a:endParaRPr b="0" lang="en-US" sz="2400" spc="-1" strike="noStrike">
              <a:solidFill>
                <a:srgbClr val="000000"/>
              </a:solidFill>
              <a:latin typeface="Calibri"/>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8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7C41-E45D-4167-B241-96A0086E40C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pätertaubt</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r Hörverlust ist erst eingetreten, nachdem sich die Muttersprache schon natürlich und unbehindert über das ursprünglich intakte Gehör entwickelt hat. Spätertaubte Menschen verfügen daher über eine normale Sprach- und Sprechkompetenz. Der plötzliche Hörverlust verunmöglicht in vielen Fällen eine natürliche Kommunikation. Der Empfang der Lautsprache ist gestört, weil der Spätertaubte vorerst weder ablesen noch visuell kommunizieren kann. Die Hörgeräteversorgung kann aus physiologischen Gründen auch bei Spätertaubten nicht in jedem Fall zum Erfolg führen (z.B. Hörschnecke oder Hörnerv defekt).</a:t>
            </a:r>
            <a:endParaRPr b="0" lang="en-US" sz="2400" spc="-1" strike="noStrike">
              <a:solidFill>
                <a:srgbClr val="000000"/>
              </a:solidFill>
              <a:latin typeface="Calibri"/>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8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6FE6-47BA-425C-A361-DCFBCDC096E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I-Träger/innen (Cochleaimplant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I-Träger/innen sind, vereinfacht ausgedrückt, akustisch angekoppelte Gehörlose oder Schwerhörige. Je nach ihrer sprachlichen Entwicklung und Förderung (Implantation vor dem Spracherwerb, spätere Implantation) ist ihre Sprach- und Sprechkompetenz unterschiedlich entwickelt. Bei CI Träger/innen ist zu beachten: Die Fähigkeit zum korrekten Umgang mit der Lautsprache und die Sprachkompetenz entsprechen nicht der physiologischen Fähigkeit Lautsignale aufzunehmen und zu verwerten. Hören ist nicht gleich verstehen.</a:t>
            </a:r>
            <a:endParaRPr b="0" lang="en-US" sz="2400" spc="-1" strike="noStrike">
              <a:solidFill>
                <a:srgbClr val="000000"/>
              </a:solidFill>
              <a:latin typeface="Calibri"/>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8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3E42-6A94-4143-A9DA-431DDD84EFB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68360" y="155736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I-Träger/innen (Cochleaimplant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I-Träger/innen können aufgrund ihrer hörprothetischen Versorgung unter physischen Stress geraten (Kopfweh, Erschöpfung, Tinnitus). Auch optimal versorgte CI Träger/innen bleiben akustisch defizient und benötigen zur Kommunikation eine ihnen angepasste Umgebung (Störschallfreier Raum, direkte Kommunikation, deutliche Artikulation).</a:t>
            </a:r>
            <a:endParaRPr b="0" lang="en-US" sz="2400" spc="-1" strike="noStrike">
              <a:solidFill>
                <a:srgbClr val="000000"/>
              </a:solidFill>
              <a:latin typeface="Calibri"/>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9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29B7-2EC3-4AED-99C1-FD6433C8478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3. Nachteilsausgleich für Lernende mit Hörbehinderung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rnenden mit Hörbeeinträchtigungen dürfen beim schulischen Lernen, beim Qualifikationsverfahren (Teilprüfungen, Abschlussprüfungen) und bei Leistungsermittlungen (Klassenarbeiten, Vertiefungsarbeiten, Tests, Lernzielkontrollen) aufgrund ihrer Behinderung keine Nachteile entstehen. Leistungsanforderungen werden dem individuellen Förderbedarf entsprechend differenziert gestaltet, wobei die kognitiven und fachlichen Anforderungen denjenigen "gut hörender Lernender" entsprechen müssen.</a:t>
            </a:r>
            <a:endParaRPr b="0" lang="en-US" sz="2400" spc="-1" strike="noStrike">
              <a:solidFill>
                <a:srgbClr val="000000"/>
              </a:solidFill>
              <a:latin typeface="Calibri"/>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29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9027-37F6-425D-B88F-1386254FA75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7"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itten im Thema „Nachteilsausgleich“</a:t>
            </a:r>
            <a:br>
              <a:rPr sz="2400"/>
            </a:br>
            <a:r>
              <a:rPr b="0" lang="de-CH" sz="2400" spc="-1" strike="noStrike">
                <a:solidFill>
                  <a:srgbClr val="000000"/>
                </a:solidFill>
                <a:latin typeface="Calibri"/>
              </a:rPr>
              <a:t>TA  30.8.11, S. 11</a:t>
            </a:r>
            <a:endParaRPr b="0" lang="en-US" sz="2400" spc="-1" strike="noStrike">
              <a:solidFill>
                <a:srgbClr val="000000"/>
              </a:solidFill>
              <a:latin typeface="Calibri"/>
            </a:endParaRPr>
          </a:p>
        </p:txBody>
      </p:sp>
      <p:sp>
        <p:nvSpPr>
          <p:cNvPr id="178"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17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6156-30DF-4D72-982C-826B13CB574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0" name="Picture 2" descr="F:\Benutzer\Fritz\Documents\na-protese-bild.jpg"/>
          <p:cNvPicPr/>
          <p:nvPr/>
        </p:nvPicPr>
        <p:blipFill>
          <a:blip r:embed="rId1"/>
          <a:stretch/>
        </p:blipFill>
        <p:spPr>
          <a:xfrm>
            <a:off x="2124000" y="1241280"/>
            <a:ext cx="4426200" cy="484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4.  Spezifische Massnahm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ener Katalog – nicht abschliessende Aufzählung geeigneter Nachteilsausgleichsmassnah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Zeitzuschlä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leitung durch Fachlehr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leitung durch Dolmetsch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dividuell gestaltete Pausenregelu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dividuell gestaltete Arbeitsplatz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üfungsdurchführung in separatem Ra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_x0001_</a:t>
            </a:r>
            <a:endParaRPr b="0" lang="en-US" sz="24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0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B9B3-227D-421B-87F3-A3DC56F468F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1"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üfungsdurchführung in separatem Raum in Begleitung des Fachlehr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rläuterungen zu den Aufgab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isuelle Kommunikationshilf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Kommunikationsassisten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chriftdolmetsch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ündliche statt schriftliche Prüfu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chriftliche statt mündliche Prüfung</a:t>
            </a:r>
            <a:endParaRPr b="0" lang="en-US" sz="2400" spc="-1" strike="noStrike">
              <a:solidFill>
                <a:srgbClr val="000000"/>
              </a:solidFill>
              <a:latin typeface="Calibri"/>
            </a:endParaRPr>
          </a:p>
        </p:txBody>
      </p:sp>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0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6A68-B9FD-4BAB-B873-2CBDBB301E8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4.  Spezifische Massnahm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ener Katalog – nicht abschliessende Aufzählung geeigneter Nachteilsausgleichsmassnah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Zeitzuschlä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leitung durch Fachlehr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leitung durch Dolmetsch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dividuell gestaltete Pausenregelu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dividuell gestaltete Arbeitsplatz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üfungsdurchführung in separatem Ra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_x0001_</a:t>
            </a:r>
            <a:endParaRPr b="0" lang="en-US" sz="2400" spc="-1" strike="noStrike">
              <a:solidFill>
                <a:srgbClr val="000000"/>
              </a:solidFill>
              <a:latin typeface="Calibri"/>
            </a:endParaRPr>
          </a:p>
        </p:txBody>
      </p:sp>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0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A2D4-FE24-4F97-8AD6-39AC4C1A088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9"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üfungsdurchführung in separatem Raum in Begleitung des Fachlehr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rläuterungen zu den Aufgab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isuelle Kommunikationshilf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Kommunikationsassisten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chriftdolmetsch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ündliche statt schriftliche Prüfu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chriftliche statt mündliche Prüfung</a:t>
            </a:r>
            <a:endParaRPr b="0" lang="en-US" sz="2400" spc="-1" strike="noStrike">
              <a:solidFill>
                <a:srgbClr val="000000"/>
              </a:solidFill>
              <a:latin typeface="Calibri"/>
            </a:endParaRPr>
          </a:p>
        </p:txBody>
      </p:sp>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1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3FC1-31C5-46FA-AFC7-A44E9ED0F5E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erständnisaufgaben durch Vorleser (nicht ab Tonträger) mit deutlicher Artikulation, welche das Ablesen ermöglic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Zuweisungen von Prüfungen innerhalb der Kant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reitstellen bzw. Zulassen spezieller Arbeitsmittel: Schreibmaschine, Computer, Kassettenrecorder, grössere bzw. spezifisch gestaltete Arbeitsblätter</a:t>
            </a:r>
            <a:endParaRPr b="0" lang="en-US" sz="2400" spc="-1" strike="noStrike">
              <a:solidFill>
                <a:srgbClr val="000000"/>
              </a:solidFill>
              <a:latin typeface="Calibri"/>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1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3074-8150-48F2-BF76-4B3DA8FEC96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7"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5. Nachteilsausgleich bei Abschlussprüfung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ründete Nachteilsausgleichsgesuche werden durch den Rektor der Berufsfachschule für Hörgeschädigte nach Absprache mit den Betroffenen den Prüfungsverantwortlichen in schriftlicher Form vorgelegt. Weil die Individualität des Einzelnen unterschiedliche und differenzierte Massnahmen erfordert, machen Pauschalverfügungen keinen Sinn.</a:t>
            </a:r>
            <a:endParaRPr b="0" lang="en-US" sz="2400" spc="-1" strike="noStrike">
              <a:solidFill>
                <a:srgbClr val="000000"/>
              </a:solidFill>
              <a:latin typeface="Calibri"/>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2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561C-BDED-4814-B8BD-A933BCD4205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6. Beispiel zur Erfassung der Prüfungsmodifikation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Ausbildungsberuf</a:t>
            </a:r>
            <a:r>
              <a:rPr b="0" lang="de-CH" sz="2400" spc="-1" strike="noStrike">
                <a:solidFill>
                  <a:srgbClr val="000000"/>
                </a:solidFill>
                <a:latin typeface="Calibri"/>
              </a:rPr>
              <a:t>: Mediengestalt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ehinderungsart</a:t>
            </a:r>
            <a:r>
              <a:rPr b="0" lang="de-CH" sz="2400" spc="-1" strike="noStrike">
                <a:solidFill>
                  <a:srgbClr val="000000"/>
                </a:solidFill>
                <a:latin typeface="Calibri"/>
              </a:rPr>
              <a:t>: gehörlos &lt;prälingual&g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pezifisches Handicap</a:t>
            </a:r>
            <a:r>
              <a:rPr b="0" lang="de-CH" sz="2400" spc="-1" strike="noStrike">
                <a:solidFill>
                  <a:srgbClr val="000000"/>
                </a:solidFill>
                <a:latin typeface="Calibri"/>
              </a:rPr>
              <a:t>: z.B. verminderte Lautsprachkompetenz</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Notwendige Prüfungsmodifikation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echnische Hilfsmittel</a:t>
            </a:r>
            <a:r>
              <a:rPr b="0" lang="de-CH" sz="2400" spc="-1" strike="noStrike">
                <a:solidFill>
                  <a:srgbClr val="000000"/>
                </a:solidFill>
                <a:latin typeface="Calibri"/>
              </a:rPr>
              <a:t>: ke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Zeitliche Modifikation</a:t>
            </a:r>
            <a:r>
              <a:rPr b="0" lang="de-CH" sz="2400" spc="-1" strike="noStrike">
                <a:solidFill>
                  <a:srgbClr val="000000"/>
                </a:solidFill>
                <a:latin typeface="Calibri"/>
              </a:rPr>
              <a:t>: Zeitverlängerung, z.B. zwei Stunden, für Rück- und Verständnisfragen während der Prüfung</a:t>
            </a:r>
            <a:endParaRPr b="0" lang="en-US" sz="2400" spc="-1" strike="noStrike">
              <a:solidFill>
                <a:srgbClr val="000000"/>
              </a:solidFill>
              <a:latin typeface="Calibri"/>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2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C7C8-A8D0-4A43-9686-8C334188D5F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5"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ersönliche Hilfen</a:t>
            </a:r>
            <a:r>
              <a:rPr b="0" lang="de-CH" sz="2400" spc="-1" strike="noStrike">
                <a:solidFill>
                  <a:srgbClr val="000000"/>
                </a:solidFill>
                <a:latin typeface="Calibri"/>
              </a:rPr>
              <a:t>: Gebärdensprachdolmetsch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odifikation in der Aufgabenstellung</a:t>
            </a:r>
            <a:r>
              <a:rPr b="0" lang="de-CH" sz="2400" spc="-1" strike="noStrike">
                <a:solidFill>
                  <a:srgbClr val="000000"/>
                </a:solidFill>
                <a:latin typeface="Calibri"/>
              </a:rPr>
              <a:t>: personenbezogene Umformulierung der Prüfungsunterla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üfungsort</a:t>
            </a:r>
            <a:r>
              <a:rPr b="0" lang="de-CH" sz="2400" spc="-1" strike="noStrike">
                <a:solidFill>
                  <a:srgbClr val="000000"/>
                </a:solidFill>
                <a:latin typeface="Calibri"/>
              </a:rPr>
              <a:t>: eigene Ausbildungsstätte</a:t>
            </a:r>
            <a:endParaRPr b="0" lang="en-US" sz="2400" spc="-1" strike="noStrike">
              <a:solidFill>
                <a:srgbClr val="000000"/>
              </a:solidFill>
              <a:latin typeface="Calibri"/>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2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AC9D-2731-42CA-81E1-0580AA406C2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7. Terminliche Abläuf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e Berufsfachschule für Hörgeschädigte meldet per 31. Oktober den zuständigen kantonalen Berufsbildungsämtern die gehörlosen, schwerhörigen, spät ertaubten und die in anderer Weise kommunikationsbehinderten Lernenden, die im laufenden Ausbildungsjahr das Qualifikationsverfahren zu bestehen haben. (Beilage: Merkblatt zur Gehörlosigkeit und Schwerhörigkeit). Überweisungsanträge im Sinne einer Nachteilsausgleichsregelung erfolgen in der Regel gleichzeitig.</a:t>
            </a:r>
            <a:endParaRPr b="0" lang="en-US" sz="2400" spc="-1" strike="noStrike">
              <a:solidFill>
                <a:srgbClr val="000000"/>
              </a:solidFill>
              <a:latin typeface="Calibri"/>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3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62B5-9063-4E1B-A171-47EE0B5DC51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3"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8. Weiterführende Literatu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askia Keune, Claudia Frohnenberg: Nachteilsausgleich für behinderte Prüfungsteilnehmerinnen und Prüfungsteilnehmer – Handbuch mit Fallbeispielen und Erläuterungen für die Prüfungspraxis; Bundesinstitut für Berufsbildung BIBB; Bonn, April 2005, W. Bertelsmann Verlag, Bielefeld, ISBN 3-7639-1026-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nika Lichtsteiner Müller (Hrsg.), Dyslexie, Dyskalkulie, Chancengleichheit in Berufsbildung, Mittelschule und Hochschule, 1. Auflage 2011, hep verlag ag, Bern</a:t>
            </a:r>
            <a:endParaRPr b="0" lang="en-US" sz="2400" spc="-1" strike="noStrike">
              <a:solidFill>
                <a:srgbClr val="000000"/>
              </a:solidFill>
              <a:latin typeface="Calibri"/>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Empfehlung Nr.25 – Stand: März 10</a:t>
            </a:r>
            <a:endParaRPr b="0" lang="en-US" sz="4400" spc="-1" strike="noStrike">
              <a:solidFill>
                <a:srgbClr val="000000"/>
              </a:solidFill>
              <a:latin typeface="Calibri"/>
            </a:endParaRPr>
          </a:p>
        </p:txBody>
      </p:sp>
      <p:sp>
        <p:nvSpPr>
          <p:cNvPr id="33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D372-A83A-4A8A-94EE-9D6C3EF3B1A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2" descr=""/>
          <p:cNvPicPr/>
          <p:nvPr/>
        </p:nvPicPr>
        <p:blipFill>
          <a:blip r:embed="rId1"/>
          <a:srcRect l="0" t="22724" r="0" b="22747"/>
          <a:stretch/>
        </p:blipFill>
        <p:spPr>
          <a:xfrm>
            <a:off x="2195640" y="1052640"/>
            <a:ext cx="4752720" cy="2592360"/>
          </a:xfrm>
          <a:prstGeom prst="rect">
            <a:avLst/>
          </a:prstGeom>
          <a:ln w="0">
            <a:noFill/>
          </a:ln>
        </p:spPr>
      </p:pic>
      <p:sp>
        <p:nvSpPr>
          <p:cNvPr id="182" name="PlaceHolder 1"/>
          <p:cNvSpPr>
            <a:spLocks noGrp="1"/>
          </p:cNvSpPr>
          <p:nvPr>
            <p:ph type="title"/>
          </p:nvPr>
        </p:nvSpPr>
        <p:spPr>
          <a:xfrm>
            <a:off x="0" y="33300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de-CH" sz="3200" spc="-1" strike="noStrike">
                <a:solidFill>
                  <a:srgbClr val="000000"/>
                </a:solidFill>
                <a:latin typeface="Calibri"/>
              </a:rPr>
              <a:t>Erfolgreiche Partnerschaft ermöglichen zwischen </a:t>
            </a:r>
            <a:br>
              <a:rPr sz="3200"/>
            </a:br>
            <a:r>
              <a:rPr b="0" lang="de-CH" sz="3200" spc="-1" strike="noStrike">
                <a:solidFill>
                  <a:srgbClr val="000000"/>
                </a:solidFill>
                <a:latin typeface="Calibri"/>
              </a:rPr>
              <a:t>Mensch mit Behinderung</a:t>
            </a:r>
            <a:br>
              <a:rPr sz="3200"/>
            </a:br>
            <a:br>
              <a:rPr sz="3200"/>
            </a:br>
            <a:br>
              <a:rPr sz="3200"/>
            </a:br>
            <a:br>
              <a:rPr sz="3200"/>
            </a:br>
            <a:br>
              <a:rPr sz="3200"/>
            </a:br>
            <a:br>
              <a:rPr sz="3200"/>
            </a:br>
            <a:endParaRPr b="0" lang="en-US" sz="3200" spc="-1" strike="noStrike">
              <a:solidFill>
                <a:srgbClr val="000000"/>
              </a:solidFill>
              <a:latin typeface="Calibri"/>
            </a:endParaRPr>
          </a:p>
        </p:txBody>
      </p:sp>
      <p:sp>
        <p:nvSpPr>
          <p:cNvPr id="183" name="Foliennummernplatzhalter 3"/>
          <p:cNvSpPr/>
          <p:nvPr/>
        </p:nvSpPr>
        <p:spPr>
          <a:xfrm>
            <a:off x="6553080" y="6140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8F66-D23C-43BC-9BA5-B90CF665C17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 name="Fußzeilenplatzhalter 4"/>
          <p:cNvSpPr/>
          <p:nvPr/>
        </p:nvSpPr>
        <p:spPr>
          <a:xfrm>
            <a:off x="2195640" y="6377040"/>
            <a:ext cx="4608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itel 1"/>
          <p:cNvSpPr/>
          <p:nvPr/>
        </p:nvSpPr>
        <p:spPr>
          <a:xfrm>
            <a:off x="152280" y="3860640"/>
            <a:ext cx="91440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de-CH" sz="3200" spc="-1" strike="noStrike">
                <a:solidFill>
                  <a:srgbClr val="000000"/>
                </a:solidFill>
                <a:latin typeface="Calibri"/>
              </a:rPr>
              <a:t>und</a:t>
            </a:r>
            <a:br>
              <a:rPr sz="3200"/>
            </a:br>
            <a:r>
              <a:rPr b="0" lang="de-CH" sz="3200" spc="-1" strike="noStrike">
                <a:solidFill>
                  <a:srgbClr val="000000"/>
                </a:solidFill>
                <a:latin typeface="Calibri"/>
              </a:rPr>
              <a:t>Arbeitgeber</a:t>
            </a:r>
            <a:br>
              <a:rPr sz="3200"/>
            </a:br>
            <a:r>
              <a:rPr b="0" lang="de-CH" sz="3200" spc="-1" strike="noStrike">
                <a:solidFill>
                  <a:srgbClr val="000000"/>
                </a:solidFill>
                <a:latin typeface="Calibri"/>
              </a:rPr>
              <a:t>Lehrmeister/-in</a:t>
            </a:r>
            <a:br>
              <a:rPr sz="3200"/>
            </a:br>
            <a:r>
              <a:rPr b="0" lang="de-CH" sz="3200" spc="-1" strike="noStrike">
                <a:solidFill>
                  <a:srgbClr val="000000"/>
                </a:solidFill>
                <a:latin typeface="Calibri"/>
              </a:rPr>
              <a:t>Berufsschullehrer/-in</a:t>
            </a:r>
            <a:br>
              <a:rPr sz="3200"/>
            </a:br>
            <a:r>
              <a:rPr b="0" lang="de-CH" sz="3200" spc="-1" strike="noStrike">
                <a:solidFill>
                  <a:srgbClr val="000000"/>
                </a:solidFill>
                <a:latin typeface="Calibri"/>
              </a:rPr>
              <a:t>Verantwortliche für Qualifikationsverfahren </a:t>
            </a:r>
            <a:br>
              <a:rPr sz="3200"/>
            </a:br>
            <a:r>
              <a:rPr b="0" lang="de-CH" sz="3200" spc="-1" strike="noStrike">
                <a:solidFill>
                  <a:srgbClr val="000000"/>
                </a:solidFill>
                <a:latin typeface="Calibri"/>
              </a:rPr>
              <a:t>Fachkräfte im Bereich Schule</a:t>
            </a: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nyder Silvia, Myriam Jost, SZH</a:t>
            </a:r>
            <a:endParaRPr b="0" lang="en-US" sz="3200" spc="-1" strike="noStrike">
              <a:solidFill>
                <a:srgbClr val="000000"/>
              </a:solidFill>
              <a:latin typeface="Calibri"/>
            </a:endParaRPr>
          </a:p>
        </p:txBody>
      </p:sp>
      <p:sp>
        <p:nvSpPr>
          <p:cNvPr id="339" name="PlaceHolder 1"/>
          <p:cNvSpPr>
            <a:spLocks noGrp="1"/>
          </p:cNvSpPr>
          <p:nvPr>
            <p:ph type="title"/>
          </p:nvPr>
        </p:nvSpPr>
        <p:spPr>
          <a:xfrm>
            <a:off x="457200" y="48528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Weiterführung des Projekts für den schulischen Bereich</a:t>
            </a:r>
            <a:br>
              <a:rPr sz="4400"/>
            </a:br>
            <a:endParaRPr b="0" lang="en-US" sz="4400" spc="-1" strike="noStrike">
              <a:solidFill>
                <a:srgbClr val="000000"/>
              </a:solidFill>
              <a:latin typeface="Calibri"/>
            </a:endParaRPr>
          </a:p>
        </p:txBody>
      </p:sp>
      <p:sp>
        <p:nvSpPr>
          <p:cNvPr id="340"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34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4904-1EEB-4E39-8109-7F35A9C0F2D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85600" y="706320"/>
            <a:ext cx="79246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80808"/>
                </a:solidFill>
                <a:latin typeface="Calibri"/>
                <a:ea typeface="Arial"/>
              </a:rPr>
              <a:t> </a:t>
            </a:r>
            <a:endParaRPr b="0" lang="en-US" sz="4400" spc="-1" strike="noStrike">
              <a:solidFill>
                <a:srgbClr val="000000"/>
              </a:solidFill>
              <a:latin typeface="Calibri"/>
            </a:endParaRPr>
          </a:p>
        </p:txBody>
      </p:sp>
      <p:sp>
        <p:nvSpPr>
          <p:cNvPr id="343" name="PlaceHolder 2"/>
          <p:cNvSpPr>
            <a:spLocks noGrp="1"/>
          </p:cNvSpPr>
          <p:nvPr>
            <p:ph/>
          </p:nvPr>
        </p:nvSpPr>
        <p:spPr>
          <a:xfrm>
            <a:off x="890640" y="2071440"/>
            <a:ext cx="7920000" cy="42526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ea typeface="Arial"/>
              </a:rPr>
              <a:t>Vorprojekt: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ea typeface="Arial"/>
              </a:rPr>
              <a:t>Welchen Nachteilsausgleich braucht es auf der obligatorischen Bildungsstufe?</a:t>
            </a:r>
            <a:endParaRPr b="0" lang="en-US" sz="36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ea typeface="Arial"/>
              </a:rPr>
              <a:t>Myriam Jost &amp; Silvia Schnyder</a:t>
            </a:r>
            <a:endParaRPr b="0" lang="en-US" sz="20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ea typeface="Arial"/>
              </a:rPr>
              <a:t>Schweizer Zentrum für Heil- und Sonderpädagogik</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ea typeface="Arial"/>
              </a:rPr>
              <a:t>Bern</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ea typeface="Arial"/>
              </a:rPr>
              <a:t>Kontext</a:t>
            </a:r>
            <a:endParaRPr b="0" lang="en-US" sz="4400" spc="-1" strike="noStrike">
              <a:solidFill>
                <a:srgbClr val="000000"/>
              </a:solidFill>
              <a:latin typeface="Calibri"/>
            </a:endParaRPr>
          </a:p>
        </p:txBody>
      </p:sp>
      <p:sp>
        <p:nvSpPr>
          <p:cNvPr id="345" name="PlaceHolder 2"/>
          <p:cNvSpPr>
            <a:spLocks noGrp="1"/>
          </p:cNvSpPr>
          <p:nvPr>
            <p:ph/>
          </p:nvPr>
        </p:nvSpPr>
        <p:spPr>
          <a:xfrm>
            <a:off x="838080" y="1916280"/>
            <a:ext cx="7785360" cy="417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iele Anfragen zum Nachteilsausgleich (FAQ)</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uftrag der EDK an SZH: Thema Nachteilsausgleich bearbeit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gleitung des Projekts „Nachteilsausgleich in der Berufsbildu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Arial"/>
              </a:rPr>
              <a:t>	</a:t>
            </a:r>
            <a:r>
              <a:rPr b="0" lang="de-CH" sz="2400" spc="-1" strike="noStrike">
                <a:solidFill>
                  <a:srgbClr val="000000"/>
                </a:solidFill>
                <a:latin typeface="Calibri"/>
              </a:rPr>
              <a:t>Inwiefern sind die Erfahrungen aus dem Bereich der Berufsbildung auf die obligatorische Schulbildung übertragbar?</a:t>
            </a:r>
            <a:endParaRPr b="0" lang="en-US" sz="2400" spc="-1" strike="noStrike">
              <a:solidFill>
                <a:srgbClr val="000000"/>
              </a:solidFill>
              <a:latin typeface="Calibri"/>
            </a:endParaRPr>
          </a:p>
        </p:txBody>
      </p:sp>
      <p:sp>
        <p:nvSpPr>
          <p:cNvPr id="346" name="Fußzeilenplatzhalter 4"/>
          <p:cNvSpPr/>
          <p:nvPr/>
        </p:nvSpPr>
        <p:spPr>
          <a:xfrm>
            <a:off x="826920" y="6237360"/>
            <a:ext cx="2897280" cy="47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ea typeface="Arial"/>
              </a:rPr>
              <a:t>Definition Nachteilsausgleich</a:t>
            </a:r>
            <a:endParaRPr b="0" lang="en-US" sz="4400" spc="-1" strike="noStrike">
              <a:solidFill>
                <a:srgbClr val="000000"/>
              </a:solidFill>
              <a:latin typeface="Calibri"/>
            </a:endParaRPr>
          </a:p>
        </p:txBody>
      </p:sp>
      <p:sp>
        <p:nvSpPr>
          <p:cNvPr id="348" name="PlaceHolder 2"/>
          <p:cNvSpPr>
            <a:spLocks noGrp="1"/>
          </p:cNvSpPr>
          <p:nvPr>
            <p:ph/>
          </p:nvPr>
        </p:nvSpPr>
        <p:spPr>
          <a:xfrm>
            <a:off x="837720" y="1916280"/>
            <a:ext cx="7953480" cy="4170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r Nachteilsausgleich betrifft die Korrektur einer unausgeglichenen Situation, um einer Diskriminierung aufgrund einer Behinderung vorzubeugen. </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Fußzeilenplatzhalter 4"/>
          <p:cNvSpPr/>
          <p:nvPr/>
        </p:nvSpPr>
        <p:spPr>
          <a:xfrm>
            <a:off x="826920" y="6237360"/>
            <a:ext cx="2897280" cy="47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ea typeface="Arial"/>
              </a:rPr>
              <a:t>Definition Nachteilsausgleich</a:t>
            </a:r>
            <a:endParaRPr b="0" lang="en-US" sz="4400" spc="-1" strike="noStrike">
              <a:solidFill>
                <a:srgbClr val="000000"/>
              </a:solidFill>
              <a:latin typeface="Calibri"/>
            </a:endParaRPr>
          </a:p>
        </p:txBody>
      </p:sp>
      <p:sp>
        <p:nvSpPr>
          <p:cNvPr id="351" name="PlaceHolder 2"/>
          <p:cNvSpPr>
            <a:spLocks noGrp="1"/>
          </p:cNvSpPr>
          <p:nvPr>
            <p:ph/>
          </p:nvPr>
        </p:nvSpPr>
        <p:spPr>
          <a:xfrm>
            <a:off x="837720" y="1916280"/>
            <a:ext cx="7953480" cy="4170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e Massnahmen des Nachteilsausgleichs werden gewährt, wenn die betroffene Person in der Lage ist, einen </a:t>
            </a:r>
            <a:r>
              <a:rPr b="1" lang="de-CH" sz="3200" spc="-1" strike="noStrike">
                <a:solidFill>
                  <a:srgbClr val="000000"/>
                </a:solidFill>
                <a:latin typeface="Calibri"/>
              </a:rPr>
              <a:t>äquivalenten Abschluss</a:t>
            </a:r>
            <a:r>
              <a:rPr b="0" lang="de-CH" sz="3200" spc="-1" strike="noStrike">
                <a:solidFill>
                  <a:srgbClr val="000000"/>
                </a:solidFill>
                <a:latin typeface="Calibri"/>
              </a:rPr>
              <a:t> in Bezug zu den anderen Lernenden zu erreichen. </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Fußzeilenplatzhalter 4"/>
          <p:cNvSpPr/>
          <p:nvPr/>
        </p:nvSpPr>
        <p:spPr>
          <a:xfrm>
            <a:off x="826920" y="6237360"/>
            <a:ext cx="2897280" cy="47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hteck 6"/>
          <p:cNvSpPr/>
          <p:nvPr/>
        </p:nvSpPr>
        <p:spPr>
          <a:xfrm>
            <a:off x="1062000" y="1898640"/>
            <a:ext cx="7561440" cy="433872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PlaceHolder 1"/>
          <p:cNvSpPr>
            <a:spLocks noGrp="1"/>
          </p:cNvSpPr>
          <p:nvPr>
            <p:ph type="title"/>
          </p:nvPr>
        </p:nvSpPr>
        <p:spPr>
          <a:xfrm>
            <a:off x="866880" y="785880"/>
            <a:ext cx="586584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de-DE" sz="4400" spc="-1" strike="noStrike">
                <a:solidFill>
                  <a:srgbClr val="000000"/>
                </a:solidFill>
                <a:latin typeface="Calibri"/>
                <a:ea typeface="Arial"/>
              </a:rPr>
              <a:t>Situierung Nachteilsausgleich innerhalb der Sonderpädagogik</a:t>
            </a:r>
            <a:br>
              <a:rPr sz="4400"/>
            </a:br>
            <a:endParaRPr b="0" lang="en-US" sz="4400" spc="-1" strike="noStrike">
              <a:solidFill>
                <a:srgbClr val="000000"/>
              </a:solidFill>
              <a:latin typeface="Calibri"/>
            </a:endParaRPr>
          </a:p>
        </p:txBody>
      </p:sp>
      <p:sp>
        <p:nvSpPr>
          <p:cNvPr id="355" name="PlaceHolder 2"/>
          <p:cNvSpPr>
            <a:spLocks noGrp="1"/>
          </p:cNvSpPr>
          <p:nvPr>
            <p:ph/>
          </p:nvPr>
        </p:nvSpPr>
        <p:spPr>
          <a:xfrm>
            <a:off x="1420920" y="4508640"/>
            <a:ext cx="4502160" cy="172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chteilsausgleich</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808080"/>
                </a:solidFill>
                <a:latin typeface="Frutiger 47LightCn"/>
              </a:rPr>
              <a:t>(Massnahmen, um Ziele des Lehrplans zu erreiche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6" name="Fußzeilenplatzhalter 4"/>
          <p:cNvSpPr/>
          <p:nvPr/>
        </p:nvSpPr>
        <p:spPr>
          <a:xfrm>
            <a:off x="3672000" y="2349360"/>
            <a:ext cx="4591080" cy="1530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80808"/>
                </a:solidFill>
                <a:latin typeface="Calibri"/>
              </a:rPr>
              <a:t>Individueller Lehrpl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898989"/>
                </a:solidFill>
                <a:latin typeface="Calibri"/>
              </a:rPr>
              <a:t>(Massnahmen, um individuell angepasste Ziele zu erreich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feld 9"/>
          <p:cNvSpPr/>
          <p:nvPr/>
        </p:nvSpPr>
        <p:spPr>
          <a:xfrm>
            <a:off x="4032360" y="3068640"/>
            <a:ext cx="4492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Gerade Verbindung 12"/>
          <p:cNvSpPr/>
          <p:nvPr/>
        </p:nvSpPr>
        <p:spPr>
          <a:xfrm>
            <a:off x="1062000" y="1898640"/>
            <a:ext cx="7561440" cy="433872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66520" y="785880"/>
            <a:ext cx="59562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ea typeface="Arial"/>
              </a:rPr>
              <a:t>Vorgehen Vorprojekt</a:t>
            </a:r>
            <a:endParaRPr b="0" lang="en-US" sz="4400" spc="-1" strike="noStrike">
              <a:solidFill>
                <a:srgbClr val="000000"/>
              </a:solidFill>
              <a:latin typeface="Calibri"/>
            </a:endParaRPr>
          </a:p>
        </p:txBody>
      </p:sp>
      <p:sp>
        <p:nvSpPr>
          <p:cNvPr id="360" name="PlaceHolder 2"/>
          <p:cNvSpPr>
            <a:spLocks noGrp="1"/>
          </p:cNvSpPr>
          <p:nvPr>
            <p:ph/>
          </p:nvPr>
        </p:nvSpPr>
        <p:spPr>
          <a:xfrm>
            <a:off x="837720" y="1808280"/>
            <a:ext cx="7953480" cy="4278240"/>
          </a:xfrm>
          <a:prstGeom prst="rect">
            <a:avLst/>
          </a:prstGeom>
          <a:noFill/>
          <a:ln w="0">
            <a:noFill/>
          </a:ln>
        </p:spPr>
        <p:txBody>
          <a:bodyPr anchor="t">
            <a:normAutofit/>
          </a:bodyPr>
          <a:p>
            <a:pPr marL="266760" indent="-266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ene Fragen bearbeiten</a:t>
            </a:r>
            <a:endParaRPr b="0" lang="en-US" sz="2400" spc="-1" strike="noStrike">
              <a:solidFill>
                <a:srgbClr val="000000"/>
              </a:solidFill>
              <a:latin typeface="Calibri"/>
            </a:endParaRPr>
          </a:p>
          <a:p>
            <a:pPr marL="266760" indent="-266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rfassen der aktuellen Situation in den Kantonen </a:t>
            </a:r>
            <a:endParaRPr b="0" lang="en-US" sz="2400" spc="-1" strike="noStrike">
              <a:solidFill>
                <a:srgbClr val="000000"/>
              </a:solidFill>
              <a:latin typeface="Calibri"/>
            </a:endParaRPr>
          </a:p>
          <a:p>
            <a:pPr marL="266760" indent="-266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rarbeiten von Massnahmen für bestimmte Behinderungsarten/Benachteiligungen</a:t>
            </a:r>
            <a:endParaRPr b="0" lang="en-US" sz="2400" spc="-1" strike="noStrike">
              <a:solidFill>
                <a:srgbClr val="000000"/>
              </a:solidFill>
              <a:latin typeface="Calibri"/>
            </a:endParaRPr>
          </a:p>
          <a:p>
            <a:pPr marL="266760" indent="-266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usweitung auf andere Behinderungsarten/Benachteiligungen</a:t>
            </a:r>
            <a:endParaRPr b="0" lang="en-US" sz="2400" spc="-1" strike="noStrike">
              <a:solidFill>
                <a:srgbClr val="000000"/>
              </a:solidFill>
              <a:latin typeface="Calibri"/>
            </a:endParaRPr>
          </a:p>
          <a:p>
            <a:pPr marL="266760" indent="-266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rarbeiten einer Dokumentation</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Fußzeilenplatzhalter 4"/>
          <p:cNvSpPr/>
          <p:nvPr/>
        </p:nvSpPr>
        <p:spPr>
          <a:xfrm>
            <a:off x="826920" y="6237360"/>
            <a:ext cx="2897280" cy="47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66520" y="785880"/>
            <a:ext cx="59562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ea typeface="Arial"/>
              </a:rPr>
              <a:t>Weiteres Vorgehen</a:t>
            </a:r>
            <a:endParaRPr b="0" lang="en-US" sz="4400" spc="-1" strike="noStrike">
              <a:solidFill>
                <a:srgbClr val="000000"/>
              </a:solidFill>
              <a:latin typeface="Calibri"/>
            </a:endParaRPr>
          </a:p>
        </p:txBody>
      </p:sp>
      <p:sp>
        <p:nvSpPr>
          <p:cNvPr id="363" name="PlaceHolder 2"/>
          <p:cNvSpPr>
            <a:spLocks noGrp="1"/>
          </p:cNvSpPr>
          <p:nvPr>
            <p:ph/>
          </p:nvPr>
        </p:nvSpPr>
        <p:spPr>
          <a:xfrm>
            <a:off x="837720" y="1916280"/>
            <a:ext cx="7953480" cy="4170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ildung einer Arbeitsgruppe mit dem Ziel, Dokumentation zu Nachteilsausgleich für EDK zu erstelle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ea typeface="Arial"/>
              </a:rPr>
              <a:t>→ </a:t>
            </a:r>
            <a:r>
              <a:rPr b="0" lang="de-CH" sz="3200" spc="-1" strike="noStrike">
                <a:solidFill>
                  <a:srgbClr val="000000"/>
                </a:solidFill>
                <a:latin typeface="Calibri"/>
                <a:ea typeface="Arial"/>
              </a:rPr>
              <a:t>Adressliste</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Fußzeilenplatzhalter 4"/>
          <p:cNvSpPr/>
          <p:nvPr/>
        </p:nvSpPr>
        <p:spPr>
          <a:xfrm>
            <a:off x="826920" y="6237360"/>
            <a:ext cx="2897280" cy="47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www.szh.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isher beteiligte Organisationen</a:t>
            </a:r>
            <a:endParaRPr b="0" lang="en-US" sz="3200" spc="-1" strike="noStrike">
              <a:solidFill>
                <a:srgbClr val="000000"/>
              </a:solidFill>
              <a:latin typeface="Calibri"/>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Zum Abschluss</a:t>
            </a:r>
            <a:endParaRPr b="0" lang="en-US" sz="4400" spc="-1" strike="noStrike">
              <a:solidFill>
                <a:srgbClr val="000000"/>
              </a:solidFill>
              <a:latin typeface="Calibri"/>
            </a:endParaRPr>
          </a:p>
        </p:txBody>
      </p:sp>
      <p:sp>
        <p:nvSpPr>
          <p:cNvPr id="367"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36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86FA-9E12-4B37-9D38-30DEC737B9E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37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7474-D00A-46C3-9E4C-3980079ABF2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71" name=""/>
          <p:cNvGraphicFramePr/>
          <p:nvPr/>
        </p:nvGraphicFramePr>
        <p:xfrm>
          <a:off x="0" y="0"/>
          <a:ext cx="9144000" cy="6381720"/>
        </p:xfrm>
        <a:graphic>
          <a:graphicData uri="http://schemas.openxmlformats.org/drawingml/2006/table">
            <a:tbl>
              <a:tblPr/>
              <a:tblGrid>
                <a:gridCol w="5111640"/>
                <a:gridCol w="4032360"/>
              </a:tblGrid>
              <a:tr h="49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Calibri"/>
                        </a:rPr>
                        <a:t>Bisher beteiligte Organisatione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Calibri"/>
                        </a:rPr>
                        <a:t>Menschen  mi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weizerischer Zentralverein für das Blindenwesen (SZB), St. Gallen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ehbehinderu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erufsschule für Hörgeschädigte (BSFH), Zürich-Oerlik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weizerischer Gehörlosenbund, Züri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Hörschädigung, Gehörlosigke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Verband Dyslexie  Schweiz, Zürich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yslexie, Dyscalkuli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 Mente Sana, Bern (Brüggli Romanshor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Geistiger Behinderu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utismus Schweiz, Zollikofen 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utismus Approach, Trimba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utismu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ZB Ressort Hörsehbehinderte, Lenzbur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Hörsehbehinderung, Taubblindhe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yspraxie, Dyspra’quoi, Prangins V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yspraxi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LPOS Ber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DS, AD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Schweizer Paraplegiker Zentrum 6207 Nottwi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Paraplegie, Tetraplegi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Calibri"/>
              </a:rPr>
              <a:t>Nachteilsausgleich – Definition als Bild </a:t>
            </a:r>
            <a:endParaRPr b="0" lang="en-US" sz="3600" spc="-1" strike="noStrike">
              <a:solidFill>
                <a:srgbClr val="000000"/>
              </a:solidFill>
              <a:latin typeface="Calibri"/>
            </a:endParaRPr>
          </a:p>
        </p:txBody>
      </p:sp>
      <p:sp>
        <p:nvSpPr>
          <p:cNvPr id="187"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40EF-22A2-45FF-85F9-C0DDE2D1E07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Picture 2" descr="F:\Benutzer\Fritz\Documents\vorträge-d\hp-kongress2011\kongresse-nachteilsausgleich\na-koch.jpg"/>
          <p:cNvPicPr/>
          <p:nvPr/>
        </p:nvPicPr>
        <p:blipFill>
          <a:blip r:embed="rId1"/>
          <a:srcRect l="2231" t="38185" r="17402" b="21154"/>
          <a:stretch/>
        </p:blipFill>
        <p:spPr>
          <a:xfrm>
            <a:off x="1547640" y="1197000"/>
            <a:ext cx="6288120" cy="4464000"/>
          </a:xfrm>
          <a:prstGeom prst="rect">
            <a:avLst/>
          </a:prstGeom>
          <a:ln w="0">
            <a:noFill/>
          </a:ln>
        </p:spPr>
      </p:pic>
      <p:sp>
        <p:nvSpPr>
          <p:cNvPr id="190" name="Textfeld 6"/>
          <p:cNvSpPr/>
          <p:nvPr/>
        </p:nvSpPr>
        <p:spPr>
          <a:xfrm>
            <a:off x="1042920" y="5662440"/>
            <a:ext cx="7274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Lehrabschlussprüfung im Riesenland – mit Nachteilsausgleich geling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artoon von Arnold Götz, in Monika Lichtsteiner, Dyslexie, Dyskalkulie, hep Verlag AG, Bern, S. 1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37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B08A-8522-416E-995B-9DF5F8C1DD0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4" name="Picture 3" descr=""/>
          <p:cNvPicPr/>
          <p:nvPr/>
        </p:nvPicPr>
        <p:blipFill>
          <a:blip r:embed="rId1"/>
          <a:srcRect l="12073" t="15962" r="11276" b="40365"/>
          <a:stretch/>
        </p:blipFill>
        <p:spPr>
          <a:xfrm>
            <a:off x="0" y="1773360"/>
            <a:ext cx="9144000" cy="3255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Diskussion</a:t>
            </a:r>
            <a:endParaRPr b="0" lang="en-US" sz="4400" spc="-1" strike="noStrike">
              <a:solidFill>
                <a:srgbClr val="000000"/>
              </a:solidFill>
              <a:latin typeface="Calibri"/>
            </a:endParaRPr>
          </a:p>
        </p:txBody>
      </p:sp>
      <p:sp>
        <p:nvSpPr>
          <p:cNvPr id="377" name="Fußzeilenplatzhalter 3"/>
          <p:cNvSpPr/>
          <p:nvPr/>
        </p:nvSpPr>
        <p:spPr>
          <a:xfrm>
            <a:off x="2627280" y="6356520"/>
            <a:ext cx="3745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a:t>
            </a:r>
            <a:endParaRPr b="0" lang="en-US" sz="1200" spc="-1" strike="noStrike">
              <a:solidFill>
                <a:srgbClr val="000000"/>
              </a:solidFill>
              <a:latin typeface="Arial"/>
            </a:endParaRPr>
          </a:p>
        </p:txBody>
      </p:sp>
      <p:sp>
        <p:nvSpPr>
          <p:cNvPr id="37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E46D-31F1-49B8-B322-B32DB37922C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chteilsausgleich – als Instrument der beruflichen und schulische Integration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hr Klarheit für alle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chteilsausgleich als Ermöglichung und nicht Erleichterung</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reite Abstützung - die grosse Herausforderung: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olitisch</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erbandspolitisch</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ehindertenpolitisch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hr Chancen für die berufliche Integration und damit Teilhabe an der Gesellschaf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Chancen sehen – Chancen geben.</a:t>
            </a:r>
            <a:endParaRPr b="0" lang="en-US" sz="4400" spc="-1" strike="noStrike">
              <a:solidFill>
                <a:srgbClr val="000000"/>
              </a:solidFill>
              <a:latin typeface="Calibri"/>
            </a:endParaRPr>
          </a:p>
        </p:txBody>
      </p:sp>
      <p:sp>
        <p:nvSpPr>
          <p:cNvPr id="38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1658-4071-48AF-9BBA-5F4470728BF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2"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125360"/>
            <a:ext cx="822960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Es ist mir ein grossen Anliegen zu danken: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Den Verantwortlichen des BBT für die Projektbeiträge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Dem SZB als Projektträger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Dem SDBB mit Daniel Stucky und Peter Knutti kompetente Begleitung im interkantonalen Bereich.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Silvia Schnyder und Myriam Jost SZH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Einen ganz besonderen Dank möchte ich an Toni Kleeb und Stefan Erni richten für freundschaftliche Zusammenarbeit.</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Und dann selbstverständlich allen, die im erweiterten Projektteam mitarbeiten.</a:t>
            </a:r>
            <a:endParaRPr b="0" lang="en-US" sz="2800" spc="-1" strike="noStrike">
              <a:solidFill>
                <a:srgbClr val="000000"/>
              </a:solidFill>
              <a:latin typeface="Calibri"/>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Dank</a:t>
            </a:r>
            <a:endParaRPr b="0" lang="en-US" sz="4400" spc="-1" strike="noStrike">
              <a:solidFill>
                <a:srgbClr val="000000"/>
              </a:solidFill>
              <a:latin typeface="Calibri"/>
            </a:endParaRPr>
          </a:p>
        </p:txBody>
      </p:sp>
      <p:sp>
        <p:nvSpPr>
          <p:cNvPr id="38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211B-0C83-413F-A354-8DF3E2635ED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rPr>
              <a:t>Definition: Nachteilsausgleich für Menschen mit Behinderung in der Berufsbildung</a:t>
            </a:r>
            <a:endParaRPr b="0" lang="en-US" sz="3200" spc="-1" strike="noStrike">
              <a:solidFill>
                <a:srgbClr val="000000"/>
              </a:solidFill>
              <a:latin typeface="Calibri"/>
            </a:endParaRPr>
          </a:p>
        </p:txBody>
      </p:sp>
      <p:sp>
        <p:nvSpPr>
          <p:cNvPr id="192" name=""/>
          <p:cNvSpPr txBox="1"/>
          <p:nvPr/>
        </p:nvSpPr>
        <p:spPr>
          <a:xfrm>
            <a:off x="428760" y="1413000"/>
            <a:ext cx="8229600" cy="4525920"/>
          </a:xfrm>
          <a:prstGeom prst="rect">
            <a:avLst/>
          </a:prstGeom>
          <a:solidFill>
            <a:srgbClr val="ffffff"/>
          </a:solidFill>
          <a:ln w="0">
            <a:noFill/>
          </a:ln>
        </p:spPr>
        <p:txBody>
          <a:bodyPr anchor="t">
            <a:normAutofit fontScale="96000"/>
          </a:bodyPr>
          <a:p>
            <a:pPr marL="32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Unter dem Begriff „Nachteilsausgleich für Menschen mit Behinderung in der Berufsbildung“ werden spezifische und individualisierte Massnahmen verstanden, welche zum Ziele haben, behinderungsbedingte Nachteile auszugleichen. Es handelt sich dabei um Anpassungen bei der Zulassung, bei der Ausbildung und bei den Qualifikationsverfahren, welche für die Sicherstellung der Chancengleichheit in der Berufsbildung für Menschen mit Behinderung notwendig sind. Lernenden dürfen daher aufgrund der Behinderung in der Berufsbildung keine Nachteile entstehen. </a:t>
            </a:r>
            <a:endParaRPr b="0" lang="en-US" sz="2600" spc="-1" strike="noStrike">
              <a:solidFill>
                <a:srgbClr val="000000"/>
              </a:solidFill>
              <a:latin typeface="Calibri"/>
            </a:endParaRPr>
          </a:p>
          <a:p>
            <a:pPr marL="32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 </a:t>
            </a:r>
            <a:endParaRPr b="0" lang="en-US" sz="2600" spc="-1" strike="noStrike">
              <a:solidFill>
                <a:srgbClr val="000000"/>
              </a:solidFill>
              <a:latin typeface="Calibri"/>
            </a:endParaRPr>
          </a:p>
          <a:p>
            <a:pPr marL="32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3"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E23C-B16D-4FB0-9E72-D937A819777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rPr>
              <a:t>Definition: Nachteilsausgleich für Menschen mit Behinderung in der Berufsbildung - Abgrenzung</a:t>
            </a:r>
            <a:endParaRPr b="0" lang="en-US" sz="32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Calibri"/>
              </a:rPr>
              <a:t>Die Modifikationen beschränken sich auf die Bereiche, die behinderungsbedingt nicht oder nur teilweise erfüllt werden können. Die kognitiven und fachlichen Vorgaben müssen immer den jeweiligen Qualifikations-Anforderungen des gewählten Berufs entsprechen. Es muss gewährleistet sein, dass die für eine bestimmte Aus- und Weiterbildung oder einen bestimmten Beruf unverzichtbaren Fähigkeiten und Fertigkeiten vorhanden sind. </a:t>
            </a:r>
            <a:endParaRPr b="0" lang="en-US" sz="2600" spc="-1" strike="noStrike">
              <a:solidFill>
                <a:srgbClr val="000000"/>
              </a:solidFill>
              <a:latin typeface="Calibri"/>
            </a:endParaRPr>
          </a:p>
        </p:txBody>
      </p:sp>
      <p:sp>
        <p:nvSpPr>
          <p:cNvPr id="197"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2DC5-772A-44AC-B447-02F8B5C47C9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rPr>
              <a:t>Definition: Nachteilsausgleich für Menschen mit Behinderung in der Berufsbildung - Erläuterungen</a:t>
            </a:r>
            <a:endParaRPr b="0" lang="en-US" sz="3200" spc="-1" strike="noStrike">
              <a:solidFill>
                <a:srgbClr val="000000"/>
              </a:solidFill>
              <a:latin typeface="Calibri"/>
            </a:endParaRPr>
          </a:p>
        </p:txBody>
      </p:sp>
      <p:sp>
        <p:nvSpPr>
          <p:cNvPr id="200" name=""/>
          <p:cNvSpPr txBox="1"/>
          <p:nvPr/>
        </p:nvSpPr>
        <p:spPr>
          <a:xfrm>
            <a:off x="468360" y="1566360"/>
            <a:ext cx="8229600" cy="4526280"/>
          </a:xfrm>
          <a:prstGeom prst="rect">
            <a:avLst/>
          </a:prstGeom>
          <a:noFill/>
          <a:ln w="0">
            <a:noFill/>
          </a:ln>
        </p:spPr>
        <p:txBody>
          <a:bodyPr anchor="t">
            <a:normAutofit fontScale="95000"/>
          </a:bodyPr>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Leistungsanforderungen werden dem individuellen, behinderungsbedingten Förderbedarf entsprechend differenziert gestaltet. </a:t>
            </a:r>
            <a:r>
              <a:rPr b="0" lang="de-CH" sz="2400" spc="-1" strike="noStrike">
                <a:solidFill>
                  <a:srgbClr val="000000"/>
                </a:solidFill>
                <a:latin typeface="Calibri"/>
              </a:rPr>
              <a:t>Die kompensatorischen Möglichkeiten müssen durch die Lernenden ausgeschöpft werden.</a:t>
            </a:r>
            <a:r>
              <a:rPr b="0" lang="de-CH" sz="2300" spc="-1" strike="noStrike">
                <a:solidFill>
                  <a:srgbClr val="000000"/>
                </a:solidFill>
                <a:latin typeface="Calibri"/>
              </a:rPr>
              <a:t> Mit dem Nachteilsausgleich wird die rechtliche Gleichstellung von Menschen mit Behinderung in der Berufsbildung umgesetzt. </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Die Ausarbeitung differenzierter, individuell ausgerichteter Nachteilsausgleichsmassnahmen für Teilprüfungen, Abschlussprüfungen und bei Leistungsermittlungen (Klassenarbeiten, Vertiefungsarbeiten, Tests, Lernzielkontrollen) geschieht auf Grund des vorgängig ermittelten Förderbedarfs und in Absprache mit den Lernenden und der zuständigen Fachlehrperson.</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01"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F232-54BC-4963-880F-4FFD874A3E4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Ziele des Projektes 1</a:t>
            </a:r>
            <a:endParaRPr b="0" lang="en-US" sz="4400" spc="-1" strike="noStrike">
              <a:solidFill>
                <a:srgbClr val="000000"/>
              </a:solidFill>
              <a:latin typeface="Calibri"/>
            </a:endParaRPr>
          </a:p>
        </p:txBody>
      </p:sp>
      <p:sp>
        <p:nvSpPr>
          <p:cNvPr id="204" name=""/>
          <p:cNvSpPr txBox="1"/>
          <p:nvPr/>
        </p:nvSpPr>
        <p:spPr>
          <a:xfrm>
            <a:off x="457200" y="13510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Umfassende Erfassung der aktuellen Informationen unter Einbezug aller Beteiligt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tegration der auf die Berufsbildung ausgerichtete Informationen in den Medienplattformen der Berufsbildung auf nationaler und kantonaler Ebe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rleichterung des Zugangs zu den relevanten Informationen zum Nachteilsausgleich</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formationen zu gesetzlichen Grundla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Definition des Begriffs Nachteilsausgleich</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formationen zu Instrumenten des Nachteilsausgleich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Informationen zu Kompetenzstell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Parallel zur Erarbeitung der Informationen verlaufen systematische Informations- und Sensibilisierungsprozes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5"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2C87-A71C-4087-B73A-390BB2F5A17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Fußzeilenplatzhalter 4"/>
          <p:cNvSpPr/>
          <p:nvPr/>
        </p:nvSpPr>
        <p:spPr>
          <a:xfrm>
            <a:off x="1476360" y="6356520"/>
            <a:ext cx="5472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Nachteilsausgleich  für Menschen mit Behinderung in der Berufsbild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898989"/>
                </a:solidFill>
                <a:latin typeface="Calibri"/>
              </a:rPr>
              <a:t>Präsentation: 7. Schweizer Heildpädagogik-Kongress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5:31:08Z</dcterms:created>
  <dc:creator>Fritz</dc:creator>
  <dc:description/>
  <dc:language>en-US</dc:language>
  <cp:lastModifiedBy>Fritz Steiner</cp:lastModifiedBy>
  <dcterms:modified xsi:type="dcterms:W3CDTF">2011-09-02T14:18:27Z</dcterms:modified>
  <cp:revision>310</cp:revision>
  <dc:subject/>
  <dc:title>Projekt: BBT 09-847:  Nachteilsausgleich für Menschen mit Behinderung in der Berufsbildung.</dc:title>
</cp:coreProperties>
</file>